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BA931-18B5-4263-AE27-54CB79E5E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00465-4153-41DB-B1EB-C0F4E00CA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1215D-47E1-48B6-9C64-58EC94907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F5109-FB10-4935-8EF5-55FCCD5A4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BAEEC-4A91-4E54-9817-B23C4FDE4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4CF8F-1C83-4869-BE38-E98F15C15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48DE3-C997-4DBE-83D1-CCA056122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E1841-16BF-4B6D-A0CA-2065982D0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29F92-F3DE-4F1E-AF4C-0DDD43299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FA934-1CA7-4AD4-A849-27F074A46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13C7A-0713-4134-882E-0471A09F8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15148-1F82-444B-BE1D-643A2679F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E1A3E-9E27-455B-85B4-7F0584F1F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7A874-5B62-4276-939B-C4C54F672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F9F95-F3FC-4277-A754-E10C46EE5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6EDAA-4375-4CDB-A65D-449DD8E5A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4AF0C-6C51-43CD-AABD-C12BFCFF1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39513-58C9-41BC-BD65-53E6956A3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96DF0-BE45-42A7-B1AF-700876767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72A1B-53A6-4038-8A6F-B3BF582CA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B2681-7C1F-4EAF-8B8E-695D398E0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0A96-EC3A-4FD1-86D4-00DCABA28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6EF60-B324-4727-9EFF-926FD6BF0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5062-9C5A-42C8-A285-E60C508C7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7885-B678-410A-8B15-63A68FE0218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57E2-44BB-463F-8720-298DC5D8D08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835280" y="2636640"/>
            <a:ext cx="6851520" cy="3600360"/>
          </a:xfrm>
          <a:prstGeom prst="rect">
            <a:avLst/>
          </a:prstGeom>
          <a:noFill/>
          <a:ln w="0">
            <a:noFill/>
          </a:ln>
        </p:spPr>
        <p:txBody>
          <a:bodyPr lIns="92160" rIns="92160" tIns="46080" bIns="46080" anchor="t">
            <a:noAutofit/>
          </a:bodyPr>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66"/>
                </a:solidFill>
                <a:latin typeface="Book Antiqua"/>
              </a:rPr>
              <a:t>SIGLO XX</a:t>
            </a:r>
            <a:endParaRPr b="0" lang="en-US" sz="4800" spc="-1" strike="noStrike">
              <a:solidFill>
                <a:srgbClr val="000000"/>
              </a:solidFill>
              <a:latin typeface="Arial Narrow"/>
            </a:endParaRPr>
          </a:p>
          <a:p>
            <a:pPr marL="812880" indent="-812880" algn="ctr">
              <a:lnSpc>
                <a:spcPct val="100000"/>
              </a:lnSpc>
              <a:spcBef>
                <a:spcPts val="11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pic>
        <p:nvPicPr>
          <p:cNvPr id="148" name="" descr=""/>
          <p:cNvPicPr/>
          <p:nvPr/>
        </p:nvPicPr>
        <p:blipFill>
          <a:blip r:embed="rId1"/>
          <a:stretch/>
        </p:blipFill>
        <p:spPr>
          <a:xfrm>
            <a:off x="395280" y="189000"/>
            <a:ext cx="2311560" cy="17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20 – 1924/25</a:t>
            </a:r>
            <a:endParaRPr b="0" lang="en-US" sz="3200" spc="-1" strike="noStrike">
              <a:solidFill>
                <a:srgbClr val="301800"/>
              </a:solidFill>
              <a:latin typeface="Arial Narrow"/>
            </a:endParaRPr>
          </a:p>
        </p:txBody>
      </p:sp>
      <p:sp>
        <p:nvSpPr>
          <p:cNvPr id="166"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Arturo Alessandri Palm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centúa la crisis del salitre, iniciada con la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1</a:t>
            </a:r>
            <a:r>
              <a:rPr b="1" lang="es-CL" sz="1800" spc="-1" strike="noStrike">
                <a:solidFill>
                  <a:srgbClr val="614020"/>
                </a:solidFill>
                <a:latin typeface="Book Antiqua"/>
              </a:rPr>
              <a:t>	</a:t>
            </a:r>
            <a:r>
              <a:rPr b="1" lang="es-CL" sz="1800" spc="-1" strike="noStrike">
                <a:solidFill>
                  <a:srgbClr val="614020"/>
                </a:solidFill>
                <a:latin typeface="Book Antiqua"/>
              </a:rPr>
              <a:t>- Caída del precio del cob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2</a:t>
            </a:r>
            <a:r>
              <a:rPr b="1" lang="es-CL" sz="1800" spc="-1" strike="noStrike">
                <a:solidFill>
                  <a:srgbClr val="614020"/>
                </a:solidFill>
                <a:latin typeface="Book Antiqua"/>
              </a:rPr>
              <a:t>	</a:t>
            </a:r>
            <a:r>
              <a:rPr b="1" lang="es-CL" sz="1800" spc="-1" strike="noStrike">
                <a:solidFill>
                  <a:srgbClr val="614020"/>
                </a:solidFill>
                <a:latin typeface="Book Antiqua"/>
              </a:rPr>
              <a:t>- Recabarren transforma el partido Obrero Socialista en el partido Comun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la electrificación del tramo ferroviari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la primera transmisión radial desde la Universidad de Chile al edificio de El Mercur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3</a:t>
            </a:r>
            <a:r>
              <a:rPr b="1" lang="es-CL" sz="1800" spc="-1" strike="noStrike">
                <a:solidFill>
                  <a:srgbClr val="614020"/>
                </a:solidFill>
                <a:latin typeface="Book Antiqua"/>
              </a:rPr>
              <a:t>	</a:t>
            </a:r>
            <a:r>
              <a:rPr b="1" lang="es-CL" sz="1800" spc="-1" strike="noStrike">
                <a:solidFill>
                  <a:srgbClr val="614020"/>
                </a:solidFill>
                <a:latin typeface="Book Antiqua"/>
              </a:rPr>
              <a:t>- José Santos González Vera publica </a:t>
            </a:r>
            <a:r>
              <a:rPr b="1" i="1" lang="es-CL" sz="1800" spc="-1" strike="noStrike">
                <a:solidFill>
                  <a:srgbClr val="614020"/>
                </a:solidFill>
                <a:latin typeface="Book Antiqua"/>
              </a:rPr>
              <a:t>Vidas Mínim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4</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encabezado por Altamirano, que aprueba las Leyes So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l Trabajo, en el cual se establecen algunas leyes sociales, como el contrato de trabajo, el seguro obrero, la ley sobre accidentes de trabajo, sobre organización sindical, sociedades cooperativas, y la Caja de Empleados Particulares</a:t>
            </a:r>
            <a:endParaRPr b="0" lang="en-US" sz="1800" spc="-1" strike="noStrike">
              <a:solidFill>
                <a:srgbClr val="000000"/>
              </a:solidFill>
              <a:latin typeface="Arial Narrow"/>
            </a:endParaRPr>
          </a:p>
        </p:txBody>
      </p:sp>
      <p:pic>
        <p:nvPicPr>
          <p:cNvPr id="167" name="" descr=""/>
          <p:cNvPicPr/>
          <p:nvPr/>
        </p:nvPicPr>
        <p:blipFill>
          <a:blip r:embed="rId1"/>
          <a:stretch/>
        </p:blipFill>
        <p:spPr>
          <a:xfrm>
            <a:off x="944640" y="-1116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publica </a:t>
            </a:r>
            <a:r>
              <a:rPr b="1" i="1" lang="es-CL" sz="1800" spc="-1" strike="noStrike">
                <a:solidFill>
                  <a:srgbClr val="614020"/>
                </a:solidFill>
                <a:latin typeface="Book Antiqua"/>
              </a:rPr>
              <a:t>Veinte poemas de amor y una canción desesperada</a:t>
            </a:r>
            <a:endParaRPr b="0" lang="en-US" sz="1800" spc="-1" strike="noStrike">
              <a:solidFill>
                <a:srgbClr val="000000"/>
              </a:solidFill>
              <a:latin typeface="Arial Narrow"/>
            </a:endParaRPr>
          </a:p>
          <a:p>
            <a:pPr lvl="1" marL="990720" indent="0" algn="just">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	</a:t>
            </a:r>
            <a:r>
              <a:rPr b="1" lang="es-CL" sz="1600" spc="-1" strike="noStrike">
                <a:solidFill>
                  <a:srgbClr val="614020"/>
                </a:solidFill>
                <a:latin typeface="Book Antiqua"/>
              </a:rPr>
              <a:t>- El 12 de septiembre renuncia Alessandri, ante la exigenciaº de las Fuerzas Armadas de disolver el Congreso</a:t>
            </a:r>
            <a:endParaRPr b="0" lang="en-US" sz="16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se establece una nueva junta de gobierno formada por Bello Codesido, Dartnell y War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reasume el 20 de marz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Empleados Públ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a:t>
            </a:r>
            <a:r>
              <a:rPr b="1" i="1" lang="es-CL" sz="1800" spc="-1" strike="noStrike">
                <a:solidFill>
                  <a:srgbClr val="614020"/>
                </a:solidFill>
                <a:latin typeface="Book Antiqua"/>
              </a:rPr>
              <a:t>Colo-Col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Constitución de 1925 por plebis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sobre derechos civiles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 de octubre vuelve a renunciar Alessandri ante la candidatura de Ibáñez a la presidenc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362320" y="304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614020"/>
                </a:solidFill>
                <a:latin typeface="Book Antiqua"/>
              </a:rPr>
              <a:t>La Constitución de 1925.</a:t>
            </a:r>
            <a:endParaRPr b="0" lang="en-US" sz="3000" spc="-1" strike="noStrike">
              <a:solidFill>
                <a:srgbClr val="301800"/>
              </a:solidFill>
              <a:latin typeface="Arial Narrow"/>
            </a:endParaRPr>
          </a:p>
        </p:txBody>
      </p:sp>
      <p:sp>
        <p:nvSpPr>
          <p:cNvPr id="170"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Una comisión designada por el Presidente Alessandri en Abril de 1925 se abocó a la redacción y estudio de una nueva Constitución Política. El Proyecto por ella elaborado fue sometido a plebiscito y promulgado por decreto de 18 de Septiembre de 1925.</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nueva Constitución introduce entre otras, las siguientes reformas importante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el régimen presidencial de gobierno.</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nsagra la separación de la Iglesia y del Estado, y asegura a todos los habitantes de la libertad de conciencia y culto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Suprime la Comisión Conservadora y el Consejo de Estado, y crea el Tribunal calificador de elecciones, los tribunales administrativos y las Asambleas provincial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ispone la elección directa del Presidente de la República y su dura</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que para los efectos de constituir el Senado, el país se divida en 9 agrupaciones provinciales, correspondiendo a cada agrupación elegir 5 senador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rea el recurso de inaplicabilidad de la ley ante la Corte Suprema. </a:t>
            </a:r>
            <a:endParaRPr b="0" lang="en-US" sz="1600" spc="-1" strike="noStrike">
              <a:solidFill>
                <a:srgbClr val="000000"/>
              </a:solidFill>
              <a:latin typeface="Arial Narrow"/>
            </a:endParaRPr>
          </a:p>
          <a:p>
            <a:pPr marL="329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e incluye entre las garantías individuales la función social de la propiedad y el carácter progresivo de los impuestos.</a:t>
            </a:r>
            <a:r>
              <a:rPr b="1" lang="es-ES_tradnl" sz="1800" spc="-1" strike="noStrike">
                <a:solidFill>
                  <a:srgbClr val="614020"/>
                </a:solidFill>
                <a:latin typeface="Book Antiqua"/>
              </a:rPr>
              <a:t> </a:t>
            </a:r>
            <a:endParaRPr b="0" lang="en-US" sz="1800" spc="-1" strike="noStrike">
              <a:solidFill>
                <a:srgbClr val="000000"/>
              </a:solidFill>
              <a:latin typeface="Arial Narrow"/>
            </a:endParaRPr>
          </a:p>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14020"/>
                </a:solidFill>
                <a:latin typeface="Book Antiqua"/>
              </a:rPr>
              <a:t>Se dispone que la reforma de la Constitución puede hacerse dentro de un mismo período legislativo, sin más exigencia para ser aprobada que el quorum de la mayoría de los parlamentarios en ejercicio, añadiéndose como único trámite final la ratificación del acuerdo, 60 días después de realizado, por el Congreso reunido en Pleno. </a:t>
            </a:r>
            <a:endParaRPr b="0" lang="en-US" sz="1800" spc="-1" strike="noStrike">
              <a:solidFill>
                <a:srgbClr val="000000"/>
              </a:solidFill>
              <a:latin typeface="Arial Narrow"/>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MILIANO FIGUEROA LARRAIN  1925 - 1927</a:t>
            </a:r>
            <a:endParaRPr b="0" lang="en-US" sz="3200" spc="-1" strike="noStrike">
              <a:solidFill>
                <a:srgbClr val="301800"/>
              </a:solidFill>
              <a:latin typeface="Arial Narrow"/>
            </a:endParaRPr>
          </a:p>
        </p:txBody>
      </p:sp>
      <p:sp>
        <p:nvSpPr>
          <p:cNvPr id="173"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Emiliano Figueroa. El coronel  Carlos Ibáñez encabeza el minister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tra en vigencia la Constitución del 25, que consagra el Estado unitario, democrático y laico, separado de la Iglesia; Chile se reorganiza en 25 provinc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Obreros e intelectuales redactan una constitución alternativa, la cual se discute en el Teatro  Municip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edro Sienna realiza  la película “</a:t>
            </a:r>
            <a:r>
              <a:rPr b="1" i="1" lang="es-CL" sz="1800" spc="-1" strike="noStrike">
                <a:solidFill>
                  <a:srgbClr val="614020"/>
                </a:solidFill>
                <a:latin typeface="Book Antiqua"/>
              </a:rPr>
              <a:t>El husar de la muerte”</a:t>
            </a:r>
            <a:r>
              <a:rPr b="1" lang="es-CL" sz="1800" spc="-1" strike="noStrike">
                <a:solidFill>
                  <a:srgbClr val="614020"/>
                </a:solidFill>
                <a:latin typeface="Book Antiqua"/>
              </a:rPr>
              <a:t>, uno de los filmes más importantes que ha producido el cine chileno y cuyo tema es la vida de Manuel Rodríguez</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6</a:t>
            </a:r>
            <a:r>
              <a:rPr b="1" lang="es-CL" sz="1800" spc="-1" strike="noStrike">
                <a:solidFill>
                  <a:srgbClr val="614020"/>
                </a:solidFill>
                <a:latin typeface="Book Antiqua"/>
              </a:rPr>
              <a:t>	</a:t>
            </a:r>
            <a:r>
              <a:rPr b="1" lang="es-CL" sz="1800" spc="-1" strike="noStrike">
                <a:solidFill>
                  <a:srgbClr val="614020"/>
                </a:solidFill>
                <a:latin typeface="Book Antiqua"/>
              </a:rPr>
              <a:t>- Manuel Rojas publica </a:t>
            </a:r>
            <a:r>
              <a:rPr b="1" i="1" lang="es-CL" sz="1800" spc="-1" strike="noStrike">
                <a:solidFill>
                  <a:srgbClr val="614020"/>
                </a:solidFill>
                <a:latin typeface="Book Antiqua"/>
              </a:rPr>
              <a:t>Hombres del Sur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Se crea la Contraloría General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 </a:t>
            </a:r>
            <a:r>
              <a:rPr b="1" lang="es-CL" sz="1800" spc="-1" strike="noStrike">
                <a:solidFill>
                  <a:srgbClr val="614020"/>
                </a:solidFill>
                <a:latin typeface="Book Antiqua"/>
              </a:rPr>
              <a:t>Figueroa entra en conflicto con Ibañez y renuncia a su cargo</a:t>
            </a:r>
            <a:r>
              <a:rPr b="1" i="1" lang="es-CL" sz="1800" spc="-1" strike="noStrike">
                <a:solidFill>
                  <a:srgbClr val="614020"/>
                </a:solidFill>
                <a:latin typeface="Book Antiqua"/>
              </a:rPr>
              <a:t> </a:t>
            </a: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174" name="" descr=""/>
          <p:cNvPicPr/>
          <p:nvPr/>
        </p:nvPicPr>
        <p:blipFill>
          <a:blip r:embed="rId1"/>
          <a:stretch/>
        </p:blipFill>
        <p:spPr>
          <a:xfrm>
            <a:off x="647640" y="0"/>
            <a:ext cx="1792440" cy="198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27 - 1931</a:t>
            </a:r>
            <a:endParaRPr b="0" lang="en-US" sz="3200" spc="-1" strike="noStrike">
              <a:solidFill>
                <a:srgbClr val="301800"/>
              </a:solidFill>
              <a:latin typeface="Arial Narrow"/>
            </a:endParaRPr>
          </a:p>
        </p:txBody>
      </p:sp>
      <p:sp>
        <p:nvSpPr>
          <p:cNvPr id="176"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Ibáñez es elegido Presidente de la República luego de la renuncia  de Emiliano Figuero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uerpo de Carabineros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8</a:t>
            </a: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Católica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Crédito Industri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a funcionar la central hidroeléctrica Queltehues, en el curso superior del río Mai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9</a:t>
            </a:r>
            <a:r>
              <a:rPr b="1" lang="es-CL" sz="1800" spc="-1" strike="noStrike">
                <a:solidFill>
                  <a:srgbClr val="614020"/>
                </a:solidFill>
                <a:latin typeface="Book Antiqua"/>
              </a:rPr>
              <a:t>	</a:t>
            </a:r>
            <a:r>
              <a:rPr b="1" lang="es-CL" sz="1800" spc="-1" strike="noStrike">
                <a:solidFill>
                  <a:srgbClr val="614020"/>
                </a:solidFill>
                <a:latin typeface="Book Antiqua"/>
              </a:rPr>
              <a:t>- Comienza  a organizarse  la Universidad Federico Santa María de Valparaíso, cuyo objetivo es entregar enseñanza técnica superior a quienes no podían financiar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Nacional (LAN Chile)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tratado de Lima, que soluciona definitivamente las diferencias de Tacna y Arica; en el se devuelve Tacna a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0</a:t>
            </a:r>
            <a:r>
              <a:rPr b="1" lang="es-CL" sz="1800" spc="-1" strike="noStrike">
                <a:solidFill>
                  <a:srgbClr val="614020"/>
                </a:solidFill>
                <a:latin typeface="Book Antiqua"/>
              </a:rPr>
              <a:t>	</a:t>
            </a:r>
            <a:r>
              <a:rPr b="1" lang="es-CL" sz="1800" spc="-1" strike="noStrike">
                <a:solidFill>
                  <a:srgbClr val="614020"/>
                </a:solidFill>
                <a:latin typeface="Book Antiqua"/>
              </a:rPr>
              <a:t>- Censo Nacional: 4.466.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Romero publica </a:t>
            </a:r>
            <a:r>
              <a:rPr b="1" i="1" lang="es-CL" sz="1800" spc="-1" strike="noStrike">
                <a:solidFill>
                  <a:srgbClr val="614020"/>
                </a:solidFill>
                <a:latin typeface="Book Antiqua"/>
              </a:rPr>
              <a:t>La viuda del convent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77"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erza Aére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614020"/>
                </a:solidFill>
                <a:latin typeface="Book Antiqua"/>
              </a:rPr>
              <a:t>	</a:t>
            </a:r>
            <a:r>
              <a:rPr b="1" lang="es-CL" sz="1800" spc="-1" strike="noStrike">
                <a:solidFill>
                  <a:srgbClr val="614020"/>
                </a:solidFill>
                <a:latin typeface="Book Antiqua"/>
              </a:rPr>
              <a:t>- Crisis económica que se observa  en la disminución de las exportaciones de salitre, cobre y hierro, además del aumento de la cesant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Estatuto Orgánico de Enseñanza Universitaria, que reconoce la existencia legal de 4 universidades: de Chile, de Concepción, Católica de Chile y Católica de Valparaíso. Consagra la autonomía  de la Universidad de Chile y la libertad de cátedra entre otras med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Dirección General de Educación Secundar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ertes y prolongadas manifestaciones populares en contra de su gestión provocan  la renuncia de Ibáñez</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ESTEBAN MONTERO</a:t>
            </a:r>
            <a:br>
              <a:rPr sz="3200"/>
            </a:br>
            <a:r>
              <a:rPr b="1" lang="es-CL" sz="3200" spc="-1" strike="noStrike">
                <a:solidFill>
                  <a:srgbClr val="000066"/>
                </a:solidFill>
                <a:latin typeface="Book Antiqua"/>
              </a:rPr>
              <a:t>1931 - 1932</a:t>
            </a:r>
            <a:endParaRPr b="0" lang="en-US" sz="3200" spc="-1" strike="noStrike">
              <a:solidFill>
                <a:srgbClr val="301800"/>
              </a:solidFill>
              <a:latin typeface="Arial Narrow"/>
            </a:endParaRPr>
          </a:p>
        </p:txBody>
      </p:sp>
      <p:sp>
        <p:nvSpPr>
          <p:cNvPr id="180" name="PlaceHolder 2"/>
          <p:cNvSpPr>
            <a:spLocks noGrp="1"/>
          </p:cNvSpPr>
          <p:nvPr>
            <p:ph type="subTitle"/>
          </p:nvPr>
        </p:nvSpPr>
        <p:spPr>
          <a:xfrm>
            <a:off x="971280" y="2060280"/>
            <a:ext cx="7993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000066"/>
                </a:solidFill>
                <a:latin typeface="Book Antiqua"/>
              </a:rPr>
              <a:t>	</a:t>
            </a:r>
            <a:r>
              <a:rPr b="1" lang="es-CL" sz="1800" spc="-1" strike="noStrike">
                <a:solidFill>
                  <a:srgbClr val="614020"/>
                </a:solidFill>
                <a:latin typeface="Book Antiqua"/>
              </a:rPr>
              <a:t>- Juan Esteban Montero es elegido, a través de elecciones, Presidente de la República, luego de la renuncia de Carlos Ibáñez del Camp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n Temuco el partido Agrario, formado por agricultores de tendencia centr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2 de enero se proclama la “República Indígena”, en un parlamento que reúne a varias asociaciones mapuches. ERlla establece la recuperación de las tierras, el gobierno autónomo, la dictación de sus propias leyes y el rechazo a la Ley Indígena decretada por el gobierno de Ibáñ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suspende la conversión de los bille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Movimiento Nacional Socialista, de tendencia Naz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lpe de Estado; en el mes de junio una junta de gobierno encabezada por un sector nacionalista de las FF.AA.  Y un grupo de civiles de orientación socialista, con el apoyo del director de la escuela de aviación, Marmaduke Grove, derrocan a Juan Esteban Montero</a:t>
            </a:r>
            <a:endParaRPr b="0" lang="en-US" sz="1800" spc="-1" strike="noStrike">
              <a:solidFill>
                <a:srgbClr val="000000"/>
              </a:solidFill>
              <a:latin typeface="Arial Narrow"/>
            </a:endParaRPr>
          </a:p>
        </p:txBody>
      </p:sp>
      <p:pic>
        <p:nvPicPr>
          <p:cNvPr id="181" name="" descr=""/>
          <p:cNvPicPr/>
          <p:nvPr/>
        </p:nvPicPr>
        <p:blipFill>
          <a:blip r:embed="rId1"/>
          <a:stretch/>
        </p:blipFill>
        <p:spPr>
          <a:xfrm>
            <a:off x="820800" y="0"/>
            <a:ext cx="1297080" cy="198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RMADUKE GROVE</a:t>
            </a:r>
            <a:br>
              <a:rPr sz="3200"/>
            </a:br>
            <a:r>
              <a:rPr b="1" lang="es-CL" sz="3200" spc="-1" strike="noStrike">
                <a:solidFill>
                  <a:srgbClr val="000066"/>
                </a:solidFill>
                <a:latin typeface="Book Antiqua"/>
              </a:rPr>
              <a:t>1932</a:t>
            </a:r>
            <a:endParaRPr b="0" lang="en-US" sz="3200" spc="-1" strike="noStrike">
              <a:solidFill>
                <a:srgbClr val="301800"/>
              </a:solidFill>
              <a:latin typeface="Arial Narrow"/>
            </a:endParaRPr>
          </a:p>
        </p:txBody>
      </p:sp>
      <p:sp>
        <p:nvSpPr>
          <p:cNvPr id="183"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4 de junio se produce una junta militar que da origen a la llamada “República Socialista”. Estaba formada por los generales Puga, Dávila y Matte, con Grove, director de la Escuela de Aviación, como Ministro de Guerra. A sumió el mando y tomó diversas medidas, como ordenar a la Caja de Crédito Popular la devolución de los artículos empeñados en esa institución. Su programa era fundamentalmente oligárquico y antiimperialist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stableció un impuesto extraordinario y progresivo a las fortunas superiores a un millón de pes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un programa de reforma universitaria, que establecía la autonomía docente, económica y administrativa de la universidad, la inviolabilidad territorial de sus recintos y contribuir a la creación y mantención de universidades para obreros, entre otras medid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manifestó activamente la participación de la mujer a través de algunas organizaciones como la Unión Femenina de Chile, la Liga Cívica Femenina, la Asociación de Mujeres Universitarias y otras que también exigían el derecho a voto </a:t>
            </a:r>
            <a:endParaRPr b="0" lang="en-US" sz="1800" spc="-1" strike="noStrike">
              <a:solidFill>
                <a:srgbClr val="000000"/>
              </a:solidFill>
              <a:latin typeface="Arial Narrow"/>
            </a:endParaRPr>
          </a:p>
        </p:txBody>
      </p:sp>
      <p:pic>
        <p:nvPicPr>
          <p:cNvPr id="184" name="" descr=""/>
          <p:cNvPicPr/>
          <p:nvPr/>
        </p:nvPicPr>
        <p:blipFill>
          <a:blip r:embed="rId1"/>
          <a:stretch/>
        </p:blipFill>
        <p:spPr>
          <a:xfrm>
            <a:off x="611280" y="0"/>
            <a:ext cx="1682640" cy="198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dquiere mayor importancia la “República Indígena”, proclamada en enero del mismo añ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s milicias republicanas para defender el orden establecido por la Constitución del 25, contra los golpes de estado. Estaban formadas por jóvenes universitarios relacionados con la clase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junta duró sólo 12 días en el pode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ERMAN  RIESCO ERRAZURIZ  1901 - 1906</a:t>
            </a:r>
            <a:endParaRPr b="0" lang="en-US" sz="3200" spc="-1" strike="noStrike">
              <a:solidFill>
                <a:srgbClr val="301800"/>
              </a:solidFill>
              <a:latin typeface="Arial Narrow"/>
            </a:endParaRPr>
          </a:p>
        </p:txBody>
      </p:sp>
      <p:sp>
        <p:nvSpPr>
          <p:cNvPr id="150"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000066"/>
                </a:solidFill>
                <a:latin typeface="Book Antiqua"/>
              </a:rPr>
              <a:t>	</a:t>
            </a:r>
            <a:r>
              <a:rPr b="1" lang="es-CL" sz="1800" spc="-1" strike="noStrike">
                <a:solidFill>
                  <a:srgbClr val="614020"/>
                </a:solidFill>
                <a:latin typeface="Book Antiqua"/>
              </a:rPr>
              <a:t>- Germán Riesco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Mancomunal Obrera de Iquique encabeza la primera huelga coordinada y organizada. Las Mancomunales eran organizaciones que agrupaban a mutuales, sociedades de resistencia y otras formas de organización de trabajadores. Contribuyeron  a la formación ideológica  y política del movimiento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2</a:t>
            </a:r>
            <a:r>
              <a:rPr b="1" lang="es-CL" sz="1800" spc="-1" strike="noStrike">
                <a:solidFill>
                  <a:srgbClr val="000066"/>
                </a:solidFill>
                <a:latin typeface="Book Antiqua"/>
              </a:rPr>
              <a:t>	</a:t>
            </a:r>
            <a:r>
              <a:rPr b="1" lang="es-CL" sz="1800" spc="-1" strike="noStrike">
                <a:solidFill>
                  <a:srgbClr val="614020"/>
                </a:solidFill>
                <a:latin typeface="Book Antiqua"/>
              </a:rPr>
              <a:t>- Se promulga el Código de Procedimiento Civi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xhibe en Valparaíso la película documental de tres minutos de duración , titulada “ Un ejercicio general de bomberos”. Se le considera la primera película chil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3</a:t>
            </a:r>
            <a:r>
              <a:rPr b="1" lang="es-CL" sz="1800" spc="-1" strike="noStrike">
                <a:solidFill>
                  <a:srgbClr val="614020"/>
                </a:solidFill>
                <a:latin typeface="Book Antiqua"/>
              </a:rPr>
              <a:t>	</a:t>
            </a:r>
            <a:r>
              <a:rPr b="1" lang="es-CL" sz="1800" spc="-1" strike="noStrike">
                <a:solidFill>
                  <a:srgbClr val="614020"/>
                </a:solidFill>
                <a:latin typeface="Book Antiqua"/>
              </a:rPr>
              <a:t>- Huelga de los obreros de las Compañías de Vapores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4</a:t>
            </a:r>
            <a:r>
              <a:rPr b="1" lang="es-CL" sz="1800" spc="-1" strike="noStrike">
                <a:solidFill>
                  <a:srgbClr val="000066"/>
                </a:solidFill>
                <a:latin typeface="Book Antiqua"/>
              </a:rPr>
              <a:t>	</a:t>
            </a:r>
            <a:r>
              <a:rPr b="1" lang="es-CL" sz="1800" spc="-1" strike="noStrike">
                <a:solidFill>
                  <a:srgbClr val="614020"/>
                </a:solidFill>
                <a:latin typeface="Book Antiqua"/>
              </a:rPr>
              <a:t>- Se firma un tratado de paz definitiva con Bolibia, quedando pendientes los temas de Arica y Tac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aldomero Lillo publica </a:t>
            </a:r>
            <a:r>
              <a:rPr b="1" i="1" lang="es-CL" sz="1800" spc="-1" strike="noStrike">
                <a:solidFill>
                  <a:srgbClr val="614020"/>
                </a:solidFill>
                <a:latin typeface="Book Antiqua"/>
              </a:rPr>
              <a:t>Sub Terra</a:t>
            </a:r>
            <a:r>
              <a:rPr b="1" lang="es-CL" sz="1800" spc="-1" strike="noStrike">
                <a:solidFill>
                  <a:srgbClr val="614020"/>
                </a:solidFill>
                <a:latin typeface="Book Antiqua"/>
              </a:rPr>
              <a:t>, dando origen a la tendencia criollista , que valora los temas de las clases populares, tanto rurales como urbanas </a:t>
            </a:r>
            <a:endParaRPr b="0" lang="en-US" sz="1800" spc="-1" strike="noStrike">
              <a:solidFill>
                <a:srgbClr val="000000"/>
              </a:solidFill>
              <a:latin typeface="Arial Narrow"/>
            </a:endParaRPr>
          </a:p>
        </p:txBody>
      </p:sp>
      <p:pic>
        <p:nvPicPr>
          <p:cNvPr id="151" name="" descr=""/>
          <p:cNvPicPr/>
          <p:nvPr/>
        </p:nvPicPr>
        <p:blipFill>
          <a:blip r:embed="rId1"/>
          <a:stretch/>
        </p:blipFill>
        <p:spPr>
          <a:xfrm>
            <a:off x="81108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DAVILA  1932</a:t>
            </a:r>
            <a:endParaRPr b="0" lang="en-US" sz="3200" spc="-1" strike="noStrike">
              <a:solidFill>
                <a:srgbClr val="301800"/>
              </a:solidFill>
              <a:latin typeface="Arial Narrow"/>
            </a:endParaRPr>
          </a:p>
        </p:txBody>
      </p:sp>
      <p:sp>
        <p:nvSpPr>
          <p:cNvPr id="187" name="PlaceHolder 2"/>
          <p:cNvSpPr>
            <a:spLocks noGrp="1"/>
          </p:cNvSpPr>
          <p:nvPr>
            <p:ph type="subTitle"/>
          </p:nvPr>
        </p:nvSpPr>
        <p:spPr>
          <a:xfrm>
            <a:off x="1042560" y="2060280"/>
            <a:ext cx="810108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Derrocada la República Socialista, el “ Comité Provisional Revolucionario” formado por miembros de las FF.AA.  constituyen el el 17 de junio una nueva junta militar encabezada por Carlos Dávila, que inicia las detenciones y relegaciones de  miembros del anterior régimen a la Isla de Pascua. Su gobierno duró cien dí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reta estado de sitio y ley marcial, a las radios se les prohíbe entregar información política, excepto los boletines ofi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vaderos de oro para </a:t>
            </a:r>
            <a:r>
              <a:rPr b="1" lang="es-CL" sz="1800" spc="-1" strike="noStrike">
                <a:solidFill>
                  <a:srgbClr val="000066"/>
                </a:solidFill>
                <a:latin typeface="Book Antiqua"/>
              </a:rPr>
              <a:t>absorver</a:t>
            </a:r>
            <a:r>
              <a:rPr b="1" lang="es-CL" sz="1800" spc="-1" strike="noStrike">
                <a:solidFill>
                  <a:srgbClr val="614020"/>
                </a:solidFill>
                <a:latin typeface="Book Antiqua"/>
              </a:rPr>
              <a:t> cesant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 Comisariato de Subsistencia y Precios”, con el fin de explotar empresas expropiadas o intervenidas y establecer el estanco de artículos de primera necesi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decreto que faculta al Presidente  a establecer casinos populares por cuenta del Estado para proporcionar comida  a bajo precio, esto en el marco de la crisis económica d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ovimiento de descontento popular y militar, toma de la casa central de la Universidad de Chile, muerte del profesor Luis Anabalón</a:t>
            </a:r>
            <a:endParaRPr b="0" lang="en-US" sz="1800" spc="-1" strike="noStrike">
              <a:solidFill>
                <a:srgbClr val="000000"/>
              </a:solidFill>
              <a:latin typeface="Arial Narrow"/>
            </a:endParaRPr>
          </a:p>
        </p:txBody>
      </p:sp>
      <p:pic>
        <p:nvPicPr>
          <p:cNvPr id="188" name="" descr=""/>
          <p:cNvPicPr/>
          <p:nvPr/>
        </p:nvPicPr>
        <p:blipFill>
          <a:blip r:embed="rId1"/>
          <a:stretch/>
        </p:blipFill>
        <p:spPr>
          <a:xfrm>
            <a:off x="1042920" y="0"/>
            <a:ext cx="1233720" cy="198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reunión de los jefes de las FF.AA.  se decide designar al general en retiro Bartolomé Blanche, que actuaba en el gobierno como ministro  del interior, como Presidente de la República y se le pide la renuncia a Carlos Dávila</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32 - 1938</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3</a:t>
            </a:r>
            <a:r>
              <a:rPr b="1" lang="es-CL" sz="1800" spc="-1" strike="noStrike">
                <a:solidFill>
                  <a:srgbClr val="614020"/>
                </a:solidFill>
                <a:latin typeface="Book Antiqua"/>
              </a:rPr>
              <a:t>	</a:t>
            </a:r>
            <a:r>
              <a:rPr b="1" lang="es-CL" sz="1800" spc="-1" strike="noStrike">
                <a:solidFill>
                  <a:srgbClr val="614020"/>
                </a:solidFill>
                <a:latin typeface="Book Antiqua"/>
              </a:rPr>
              <a:t>- Arturo Alessandri Palma es elegido Presidente de la República por segunda v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obtiene facultades extraordinarias para restablecer el orde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Partido Social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4</a:t>
            </a:r>
            <a:r>
              <a:rPr b="1" lang="es-CL" sz="1800" spc="-1" strike="noStrike">
                <a:solidFill>
                  <a:srgbClr val="614020"/>
                </a:solidFill>
                <a:latin typeface="Book Antiqua"/>
              </a:rPr>
              <a:t>	</a:t>
            </a:r>
            <a:r>
              <a:rPr b="1" lang="es-CL" sz="1800" spc="-1" strike="noStrike">
                <a:solidFill>
                  <a:srgbClr val="614020"/>
                </a:solidFill>
                <a:latin typeface="Book Antiqua"/>
              </a:rPr>
              <a:t>- Se otorga voto a la mujer para las elecciones municip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ventas del Salitre y Yodo, en reemplazo de la Cosach</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5</a:t>
            </a:r>
            <a:r>
              <a:rPr b="1" lang="es-CL" sz="1800" spc="-1" strike="noStrike">
                <a:solidFill>
                  <a:srgbClr val="614020"/>
                </a:solidFill>
                <a:latin typeface="Book Antiqua"/>
              </a:rPr>
              <a:t>	</a:t>
            </a:r>
            <a:r>
              <a:rPr b="1" lang="es-CL" sz="1800" spc="-1" strike="noStrike">
                <a:solidFill>
                  <a:srgbClr val="614020"/>
                </a:solidFill>
                <a:latin typeface="Book Antiqua"/>
              </a:rPr>
              <a:t>- María Luisa Bombal publica </a:t>
            </a:r>
            <a:r>
              <a:rPr b="1" i="1" lang="es-CL" sz="1800" spc="-1" strike="noStrike">
                <a:solidFill>
                  <a:srgbClr val="614020"/>
                </a:solidFill>
                <a:latin typeface="Book Antiqua"/>
              </a:rPr>
              <a:t>La Mortaj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6</a:t>
            </a:r>
            <a:r>
              <a:rPr b="1" lang="es-CL" sz="1800" spc="-1" strike="noStrike">
                <a:solidFill>
                  <a:srgbClr val="000066"/>
                </a:solidFill>
                <a:latin typeface="Book Antiqua"/>
              </a:rPr>
              <a:t>	</a:t>
            </a:r>
            <a:r>
              <a:rPr b="1" lang="es-CL" sz="1800" spc="-1" strike="noStrike">
                <a:solidFill>
                  <a:srgbClr val="614020"/>
                </a:solidFill>
                <a:latin typeface="Book Antiqua"/>
              </a:rPr>
              <a:t>- Se disuelve la milicia republica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7</a:t>
            </a:r>
            <a:r>
              <a:rPr b="1" lang="es-CL" sz="1800" spc="-1" strike="noStrike">
                <a:solidFill>
                  <a:srgbClr val="614020"/>
                </a:solidFill>
                <a:latin typeface="Book Antiqua"/>
              </a:rPr>
              <a:t>	</a:t>
            </a:r>
            <a:r>
              <a:rPr b="1" lang="es-CL" sz="1800" spc="-1" strike="noStrike">
                <a:solidFill>
                  <a:srgbClr val="614020"/>
                </a:solidFill>
                <a:latin typeface="Book Antiqua"/>
              </a:rPr>
              <a:t>- Se dicta la Ley de Seguridad Interior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n las leyes de Sueldo Mínimo y de Medicina Preventiva, esta última, proyecto del doctor Eduardo Cruz-Cok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Club Fotográfico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Escuela de Derecho y el Barrio Cívico</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944640" y="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ituye el Frente Popular con la participación de los partidos Radical, Democrático, Socialista y Comunista, además de la Confederación de Trabajadores de Chile (CT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A partir de una división de la Juventud Conservadora se forma la Falange Nacional, nuevo grupo político de tendencia social cristiana, inspirado en las encíclicas </a:t>
            </a:r>
            <a:r>
              <a:rPr b="1" i="1" lang="es-CL" sz="1800" spc="-1" strike="noStrike">
                <a:solidFill>
                  <a:srgbClr val="614020"/>
                </a:solidFill>
                <a:latin typeface="Book Antiqua"/>
              </a:rPr>
              <a:t>Renum Novarum</a:t>
            </a:r>
            <a:r>
              <a:rPr b="1" lang="es-CL" sz="1800" spc="-1" strike="noStrike">
                <a:solidFill>
                  <a:srgbClr val="614020"/>
                </a:solidFill>
                <a:latin typeface="Book Antiqua"/>
              </a:rPr>
              <a:t> y </a:t>
            </a:r>
            <a:r>
              <a:rPr b="1" i="1" lang="es-CL" sz="1800" spc="-1" strike="noStrike">
                <a:solidFill>
                  <a:srgbClr val="614020"/>
                </a:solidFill>
                <a:latin typeface="Book Antiqua"/>
              </a:rPr>
              <a:t>Quadragésimo An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orma grupo poético surrealista “Mandrágora”, dirigido por Braulio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sacre del Seguro Obrero; son asesinados 63 jóvenes del movimiento nazi que se habían entregado a Carabineros luego de la toma de la Universidad de Chile y el edificio del Seguro Obrero, exigiendo la renuncia del Presidente Alessandr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auguración del Estadio Nacional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AGUIRRE CERDA  </a:t>
            </a:r>
            <a:br>
              <a:rPr sz="3200"/>
            </a:br>
            <a:r>
              <a:rPr b="1" lang="es-CL" sz="3200" spc="-1" strike="noStrike">
                <a:solidFill>
                  <a:srgbClr val="000066"/>
                </a:solidFill>
                <a:latin typeface="Book Antiqua"/>
              </a:rPr>
              <a:t>1938 - 1941</a:t>
            </a:r>
            <a:endParaRPr b="0" lang="en-US" sz="3200" spc="-1" strike="noStrike">
              <a:solidFill>
                <a:srgbClr val="301800"/>
              </a:solidFill>
              <a:latin typeface="Arial Narrow"/>
            </a:endParaRPr>
          </a:p>
        </p:txBody>
      </p:sp>
      <p:sp>
        <p:nvSpPr>
          <p:cNvPr id="19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Pedro Aguirre Cerda es elegido Presidente de la República, apoyado por el Frente Popular; su lema: </a:t>
            </a:r>
            <a:r>
              <a:rPr b="1" i="1" lang="es-CL" sz="1800" spc="-1" strike="noStrike">
                <a:solidFill>
                  <a:srgbClr val="614020"/>
                </a:solidFill>
                <a:latin typeface="Book Antiqua"/>
              </a:rPr>
              <a:t>gobernar es educ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9</a:t>
            </a:r>
            <a:r>
              <a:rPr b="1" lang="es-CL" sz="1800" spc="-1" strike="noStrike">
                <a:solidFill>
                  <a:srgbClr val="614020"/>
                </a:solidFill>
                <a:latin typeface="Book Antiqua"/>
              </a:rPr>
              <a:t>	</a:t>
            </a:r>
            <a:r>
              <a:rPr b="1" lang="es-CL" sz="1800" spc="-1" strike="noStrike">
                <a:solidFill>
                  <a:srgbClr val="614020"/>
                </a:solidFill>
                <a:latin typeface="Book Antiqua"/>
              </a:rPr>
              <a:t>- Terremoto de Chillán provoca miles de muertos, además de la perdida de gran parte de la producción agrícola, afectando la zona comprendida entre Talca y Biobí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enjamín Subercaseaux publica </a:t>
            </a:r>
            <a:r>
              <a:rPr b="1" i="1" lang="es-CL" sz="1800" spc="-1" strike="noStrike">
                <a:solidFill>
                  <a:srgbClr val="614020"/>
                </a:solidFill>
                <a:latin typeface="Book Antiqua"/>
              </a:rPr>
              <a:t>Niño de Lluv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lega a Valparaíso el barco </a:t>
            </a:r>
            <a:r>
              <a:rPr b="1" i="1" lang="es-CL" sz="1800" spc="-1" strike="noStrike">
                <a:solidFill>
                  <a:srgbClr val="614020"/>
                </a:solidFill>
                <a:latin typeface="Book Antiqua"/>
              </a:rPr>
              <a:t>Winnipeg</a:t>
            </a:r>
            <a:r>
              <a:rPr b="1" lang="es-CL" sz="1800" spc="-1" strike="noStrike">
                <a:solidFill>
                  <a:srgbClr val="614020"/>
                </a:solidFill>
                <a:latin typeface="Book Antiqua"/>
              </a:rPr>
              <a:t>, trayendo refugiados de la Guerra Civil española. En él vienen varios intelectuales como José Balmes, Leopoldo Castedo, Roser Bru, entre otr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uego de un largo debate en el Congreso, se crea la Corporación de Fomento de la Producción (Corfo) con el objeto de promover el desarrollo de la industria nacional, sustituir las importaciones mediante la creación de empresas abocadas a áreas específ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0</a:t>
            </a:r>
            <a:r>
              <a:rPr b="1" lang="es-CL" sz="1800" spc="-1" strike="noStrike">
                <a:solidFill>
                  <a:srgbClr val="614020"/>
                </a:solidFill>
                <a:latin typeface="Book Antiqua"/>
              </a:rPr>
              <a:t>	</a:t>
            </a:r>
            <a:r>
              <a:rPr b="1" lang="es-CL" sz="1800" spc="-1" strike="noStrike">
                <a:solidFill>
                  <a:srgbClr val="614020"/>
                </a:solidFill>
                <a:latin typeface="Book Antiqua"/>
              </a:rPr>
              <a:t>- Se crea la Endesa, empresa perteneciente a Corfo, que pone en marcha el plan de electrificación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Extensión Musical, que organiza luego la Escuela de Danza</a:t>
            </a:r>
            <a:endParaRPr b="0" lang="en-US" sz="1800" spc="-1" strike="noStrike">
              <a:solidFill>
                <a:srgbClr val="000000"/>
              </a:solidFill>
              <a:latin typeface="Arial Narrow"/>
            </a:endParaRPr>
          </a:p>
        </p:txBody>
      </p:sp>
      <p:pic>
        <p:nvPicPr>
          <p:cNvPr id="196" name="" descr=""/>
          <p:cNvPicPr/>
          <p:nvPr/>
        </p:nvPicPr>
        <p:blipFill>
          <a:blip r:embed="rId1"/>
          <a:stretch/>
        </p:blipFill>
        <p:spPr>
          <a:xfrm>
            <a:off x="898560" y="0"/>
            <a:ext cx="1479600" cy="198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042920" y="1700280"/>
            <a:ext cx="7850160" cy="4968720"/>
          </a:xfrm>
          <a:prstGeom prst="rect">
            <a:avLst/>
          </a:prstGeom>
          <a:noFill/>
          <a:ln w="9360">
            <a:solidFill>
              <a:srgbClr val="000066"/>
            </a:solidFill>
            <a:miter/>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un Decreto Supremo que fija los límites al Territorio Chileno Antárt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1</a:t>
            </a:r>
            <a:r>
              <a:rPr b="1" lang="es-CL" sz="1800" spc="-1" strike="noStrike">
                <a:solidFill>
                  <a:srgbClr val="614020"/>
                </a:solidFill>
                <a:latin typeface="Book Antiqua"/>
              </a:rPr>
              <a:t>	</a:t>
            </a:r>
            <a:r>
              <a:rPr b="1" lang="es-CL" sz="1800" spc="-1" strike="noStrike">
                <a:solidFill>
                  <a:srgbClr val="614020"/>
                </a:solidFill>
                <a:latin typeface="Book Antiqua"/>
              </a:rPr>
              <a:t>- Ruptura del Frente Popul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rquesta Sinfónic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rancisco Coloane publica </a:t>
            </a:r>
            <a:r>
              <a:rPr b="1" i="1" lang="es-CL" sz="1800" spc="-1" strike="noStrike">
                <a:solidFill>
                  <a:srgbClr val="614020"/>
                </a:solidFill>
                <a:latin typeface="Book Antiqua"/>
              </a:rPr>
              <a:t>El último grumete de la Baqueda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Teatro Experimental de la Universidad de Chile formado por estudiantes del Instituto Pedagógico, la Escuela de Leyes y  la Escuela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ran polémica desata proyección de la película </a:t>
            </a:r>
            <a:r>
              <a:rPr b="1" i="1" lang="es-CL" sz="1800" spc="-1" strike="noStrike">
                <a:solidFill>
                  <a:srgbClr val="614020"/>
                </a:solidFill>
                <a:latin typeface="Book Antiqua"/>
              </a:rPr>
              <a:t>El Gran Dictador </a:t>
            </a:r>
            <a:r>
              <a:rPr b="1" lang="es-CL" sz="1800" spc="-1" strike="noStrike">
                <a:solidFill>
                  <a:srgbClr val="614020"/>
                </a:solidFill>
                <a:latin typeface="Book Antiqua"/>
              </a:rPr>
              <a:t> de Charles Chapli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guirre Cerda fallece en noviembr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ANTONIO RIOS IDE  </a:t>
            </a:r>
            <a:br>
              <a:rPr sz="3200"/>
            </a:br>
            <a:r>
              <a:rPr b="1" lang="es-CL" sz="3200" spc="-1" strike="noStrike">
                <a:solidFill>
                  <a:srgbClr val="000066"/>
                </a:solidFill>
                <a:latin typeface="Book Antiqua"/>
              </a:rPr>
              <a:t>1942 - 1946</a:t>
            </a:r>
            <a:endParaRPr b="0" lang="en-US" sz="3200" spc="-1" strike="noStrike">
              <a:solidFill>
                <a:srgbClr val="301800"/>
              </a:solidFill>
              <a:latin typeface="Arial Narrow"/>
            </a:endParaRPr>
          </a:p>
        </p:txBody>
      </p:sp>
      <p:sp>
        <p:nvSpPr>
          <p:cNvPr id="199"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2</a:t>
            </a:r>
            <a:r>
              <a:rPr b="1" lang="es-CL" sz="1800" spc="-1" strike="noStrike">
                <a:solidFill>
                  <a:srgbClr val="614020"/>
                </a:solidFill>
                <a:latin typeface="Book Antiqua"/>
              </a:rPr>
              <a:t>	</a:t>
            </a:r>
            <a:r>
              <a:rPr b="1" lang="es-CL" sz="1800" spc="-1" strike="noStrike">
                <a:solidFill>
                  <a:srgbClr val="614020"/>
                </a:solidFill>
                <a:latin typeface="Book Antiqua"/>
              </a:rPr>
              <a:t>- En febrero es elegido Presidente de la República Juan Antonio Rí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ugusto D´Halmar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la creación de Chile Films, Corfo inaugura los primeros estudios cinematográficos para promover el desarrollo del cine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Instituto de extensión Musical es incorporado a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3</a:t>
            </a:r>
            <a:r>
              <a:rPr b="1" lang="es-CL" sz="1800" spc="-1" strike="noStrike">
                <a:solidFill>
                  <a:srgbClr val="000066"/>
                </a:solidFill>
                <a:latin typeface="Book Antiqua"/>
              </a:rPr>
              <a:t>	</a:t>
            </a:r>
            <a:r>
              <a:rPr b="1" lang="es-CL" sz="1800" spc="-1" strike="noStrike">
                <a:solidFill>
                  <a:srgbClr val="614020"/>
                </a:solidFill>
                <a:latin typeface="Book Antiqua"/>
              </a:rPr>
              <a:t>- En el marco de la Segunda Guerra Mundial, Chile rompe relaciones con Alemania, Italia y Jap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actica una reforma a la Constitución de 1925, mediante la cual la Contraloría General es reconocida como organismo fiscaliza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prospecciones petroleras en el extremo sur, como parte de la gestión de la Corfo</a:t>
            </a:r>
            <a:endParaRPr b="0" lang="en-US" sz="1800" spc="-1" strike="noStrike">
              <a:solidFill>
                <a:srgbClr val="000000"/>
              </a:solidFill>
              <a:latin typeface="Arial Narrow"/>
            </a:endParaRPr>
          </a:p>
        </p:txBody>
      </p:sp>
      <p:pic>
        <p:nvPicPr>
          <p:cNvPr id="200" name="" descr=""/>
          <p:cNvPicPr/>
          <p:nvPr/>
        </p:nvPicPr>
        <p:blipFill>
          <a:blip r:embed="rId1"/>
          <a:stretch/>
        </p:blipFill>
        <p:spPr>
          <a:xfrm>
            <a:off x="468360" y="0"/>
            <a:ext cx="2076480" cy="197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4</a:t>
            </a:r>
            <a:r>
              <a:rPr b="1" lang="es-CL" sz="1800" spc="-1" strike="noStrike">
                <a:solidFill>
                  <a:srgbClr val="000066"/>
                </a:solidFill>
                <a:latin typeface="Book Antiqua"/>
              </a:rPr>
              <a:t>	</a:t>
            </a:r>
            <a:r>
              <a:rPr b="1" lang="es-CL" sz="1800" spc="-1" strike="noStrike">
                <a:solidFill>
                  <a:srgbClr val="614020"/>
                </a:solidFill>
                <a:latin typeface="Book Antiqua"/>
              </a:rPr>
              <a:t>- El padre Alberto Hurtado funda el Hogar de Cristo, institución dedicada a socorrer y mejorar la condición de vida de los más po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5</a:t>
            </a:r>
            <a:r>
              <a:rPr b="1" lang="es-CL" sz="1800" spc="-1" strike="noStrike">
                <a:solidFill>
                  <a:srgbClr val="614020"/>
                </a:solidFill>
                <a:latin typeface="Book Antiqua"/>
              </a:rPr>
              <a:t>	</a:t>
            </a:r>
            <a:r>
              <a:rPr b="1" lang="es-CL" sz="1800" spc="-1" strike="noStrike">
                <a:solidFill>
                  <a:srgbClr val="614020"/>
                </a:solidFill>
                <a:latin typeface="Book Antiqua"/>
              </a:rPr>
              <a:t>- José María Caro Rodríguez es nombrado Arzobispo de Chile a la edad de 79 años, por el Papa Pío XI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abriela Mistral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ace el Ballet Nacional y el Coro de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Se produce un enfrentamiento entre manifestantes de la CTCh y carabineros, los primeros habían organizado una concentración  en apoyo a  huelguistas del salitre. El resultado de dicho enfrentamiento fueron 8 muertos y centenares de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scubre petróleo en la planta Manantiales (Magall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Ríos fallec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ABRIEL GONZALEZ VIDELA  1946 - 1952</a:t>
            </a:r>
            <a:endParaRPr b="0" lang="en-US" sz="3200" spc="-1" strike="noStrike">
              <a:solidFill>
                <a:srgbClr val="301800"/>
              </a:solidFill>
              <a:latin typeface="Arial Narrow"/>
            </a:endParaRPr>
          </a:p>
        </p:txBody>
      </p:sp>
      <p:sp>
        <p:nvSpPr>
          <p:cNvPr id="203"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En octubre González Videla, candidato de los radicales, comunistas y demócratas, es elegido por 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Julio Barrenechea publica “El libro del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7</a:t>
            </a:r>
            <a:r>
              <a:rPr b="1" lang="es-CL" sz="1800" spc="-1" strike="noStrike">
                <a:solidFill>
                  <a:srgbClr val="614020"/>
                </a:solidFill>
                <a:latin typeface="Book Antiqua"/>
              </a:rPr>
              <a:t>	</a:t>
            </a:r>
            <a:r>
              <a:rPr b="1" lang="es-CL" sz="1800" spc="-1" strike="noStrike">
                <a:solidFill>
                  <a:srgbClr val="614020"/>
                </a:solidFill>
                <a:latin typeface="Book Antiqua"/>
              </a:rPr>
              <a:t>- Se crea la Universidad Técnica del Estado, cuyo objetivo era la formación de técnicos, ingenieros industriales y constructores para enfrentar los nuevos planes de desarro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reivindica la soberanía de las 200 millas mari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fundición de cobre de Paipote, la refinería de petróleo de Concón y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Técnica Federico Santa María,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Defensa Permanente de la Democracia -bautizada como la “ley maldita”-, que pone fuera de la ley al partido Comun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8</a:t>
            </a:r>
            <a:r>
              <a:rPr b="1" lang="es-CL" sz="1800" spc="-1" strike="noStrike">
                <a:solidFill>
                  <a:srgbClr val="614020"/>
                </a:solidFill>
                <a:latin typeface="Book Antiqua"/>
              </a:rPr>
              <a:t>	</a:t>
            </a:r>
            <a:r>
              <a:rPr b="1" lang="es-CL" sz="1800" spc="-1" strike="noStrike">
                <a:solidFill>
                  <a:srgbClr val="614020"/>
                </a:solidFill>
                <a:latin typeface="Book Antiqua"/>
              </a:rPr>
              <a:t>- Se establece la Asignación Famili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04" name="" descr=""/>
          <p:cNvPicPr/>
          <p:nvPr/>
        </p:nvPicPr>
        <p:blipFill>
          <a:blip r:embed="rId1"/>
          <a:stretch/>
        </p:blipFill>
        <p:spPr>
          <a:xfrm>
            <a:off x="584280" y="0"/>
            <a:ext cx="1515960" cy="198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042560" y="1773360"/>
            <a:ext cx="7921800" cy="5084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idela fue el primer Presidente de Chile que visitó la Antárt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9</a:t>
            </a:r>
            <a:r>
              <a:rPr b="1" lang="es-CL" sz="1800" spc="-1" strike="noStrike">
                <a:solidFill>
                  <a:srgbClr val="614020"/>
                </a:solidFill>
                <a:latin typeface="Book Antiqua"/>
              </a:rPr>
              <a:t>	</a:t>
            </a:r>
            <a:r>
              <a:rPr b="1" lang="es-CL" sz="1800" spc="-1" strike="noStrike">
                <a:solidFill>
                  <a:srgbClr val="614020"/>
                </a:solidFill>
                <a:latin typeface="Book Antiqua"/>
              </a:rPr>
              <a:t>- Se concede el derecho a sufragio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revolución de la chaucha”, enfrentamiento entre estudiantes y carabineros, luego de que éstos realizaran protestas por el alza de 20 centavos al pasaje de micros y car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parece por primera vez la revista “Condorito”, de René Ríos, “Pe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0</a:t>
            </a:r>
            <a:r>
              <a:rPr b="1" lang="es-CL" sz="1800" spc="-1" strike="noStrike">
                <a:solidFill>
                  <a:srgbClr val="614020"/>
                </a:solidFill>
                <a:latin typeface="Book Antiqua"/>
              </a:rPr>
              <a:t>	</a:t>
            </a:r>
            <a:r>
              <a:rPr b="1" lang="es-CL" sz="1800" spc="-1" strike="noStrike">
                <a:solidFill>
                  <a:srgbClr val="614020"/>
                </a:solidFill>
                <a:latin typeface="Book Antiqua"/>
              </a:rPr>
              <a:t>- Se inaugura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era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1</a:t>
            </a:r>
            <a:r>
              <a:rPr b="1" lang="es-CL" sz="1800" spc="-1" strike="noStrike">
                <a:solidFill>
                  <a:srgbClr val="000066"/>
                </a:solidFill>
                <a:latin typeface="Book Antiqua"/>
              </a:rPr>
              <a:t>	</a:t>
            </a:r>
            <a:r>
              <a:rPr b="1" lang="es-CL" sz="1800" spc="-1" strike="noStrike">
                <a:solidFill>
                  <a:srgbClr val="614020"/>
                </a:solidFill>
                <a:latin typeface="Book Antiqua"/>
              </a:rPr>
              <a:t>- Gabriela Mistral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nuel Rojas publica “Hijo de Ladr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2</a:t>
            </a:r>
            <a:r>
              <a:rPr b="1" lang="es-CL" sz="1800" spc="-1" strike="noStrike">
                <a:solidFill>
                  <a:srgbClr val="614020"/>
                </a:solidFill>
                <a:latin typeface="Book Antiqua"/>
              </a:rPr>
              <a:t>	</a:t>
            </a:r>
            <a:r>
              <a:rPr b="1" lang="es-CL" sz="1800" spc="-1" strike="noStrike">
                <a:solidFill>
                  <a:srgbClr val="614020"/>
                </a:solidFill>
                <a:latin typeface="Book Antiqua"/>
              </a:rPr>
              <a:t>- Por primera vez la mujer puede votar en elecciones presiden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Industria Azucarera Nacional S.A. (IANS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42560" y="1773000"/>
            <a:ext cx="7921800" cy="4895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 Colonia Tolstoyana”, grupo de trabajadores e intelectuales anarquistas, como una reacción contra la cultura burguesa. Destacan en este grupo D`Halmar y Magallanes Mou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5</a:t>
            </a:r>
            <a:r>
              <a:rPr b="1" lang="es-CL" sz="1800" spc="-1" strike="noStrike">
                <a:solidFill>
                  <a:srgbClr val="614020"/>
                </a:solidFill>
                <a:latin typeface="Book Antiqua"/>
              </a:rPr>
              <a:t>	</a:t>
            </a:r>
            <a:r>
              <a:rPr b="1" lang="es-CL" sz="1800" spc="-1" strike="noStrike">
                <a:solidFill>
                  <a:srgbClr val="614020"/>
                </a:solidFill>
                <a:latin typeface="Book Antiqua"/>
              </a:rPr>
              <a:t>- </a:t>
            </a:r>
            <a:r>
              <a:rPr b="1" i="1" lang="es-CL" sz="1800" spc="-1" strike="noStrike">
                <a:solidFill>
                  <a:srgbClr val="614020"/>
                </a:solidFill>
                <a:latin typeface="Book Antiqua"/>
              </a:rPr>
              <a:t>Huelga de la carne</a:t>
            </a:r>
            <a:r>
              <a:rPr b="1" lang="es-CL" sz="1800" spc="-1" strike="noStrike">
                <a:solidFill>
                  <a:srgbClr val="614020"/>
                </a:solidFill>
                <a:latin typeface="Book Antiqua"/>
              </a:rPr>
              <a:t> en Santiago. Se la solicita al gobierno la derogación del impuesto al ganado argentino y se reclama por el alza del costo de la vida. Se inicia con un mitin que arroja un saldo de 70 muertos y 300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stalan altos hornos en Corral, con lo que se inicia la industria siderúrg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Fundación de la Federación de Estudiantes de Chile (FE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 Procedimiento Pe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6 de agosto se produce un terremoto que destruye parte del puerto de Valparaíso y en el cual fallece la esposa del futuro Presidente Pedr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omulgación de la Ley  de Habitaciones Obrera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52 - 1958</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3</a:t>
            </a:r>
            <a:r>
              <a:rPr b="1" lang="es-CL" sz="1800" spc="-1" strike="noStrike">
                <a:solidFill>
                  <a:srgbClr val="614020"/>
                </a:solidFill>
                <a:latin typeface="Book Antiqua"/>
              </a:rPr>
              <a:t>	</a:t>
            </a:r>
            <a:r>
              <a:rPr b="1" lang="es-CL" sz="1800" spc="-1" strike="noStrike">
                <a:solidFill>
                  <a:srgbClr val="614020"/>
                </a:solidFill>
                <a:latin typeface="Book Antiqua"/>
              </a:rPr>
              <a:t>- Carlos Ibáñez del Campo es elegido Presidente de la República por segunda vez, a los 75 años de e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 la Central Unica de Trabajadores (CU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Universidad de Chile crea el Premio Nacional de Tea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5</a:t>
            </a:r>
            <a:r>
              <a:rPr b="1" lang="es-CL" sz="1800" spc="-1" strike="noStrike">
                <a:solidFill>
                  <a:srgbClr val="614020"/>
                </a:solidFill>
                <a:latin typeface="Book Antiqua"/>
              </a:rPr>
              <a:t>	</a:t>
            </a:r>
            <a:r>
              <a:rPr b="1" lang="es-CL" sz="1800" spc="-1" strike="noStrike">
                <a:solidFill>
                  <a:srgbClr val="614020"/>
                </a:solidFill>
                <a:latin typeface="Book Antiqua"/>
              </a:rPr>
              <a:t>- Debido a los altos índices alcanzados por la inflación (80%), el gobierno contrató en el extranjero a la misión </a:t>
            </a:r>
            <a:r>
              <a:rPr b="1" i="1" lang="es-CL" sz="1800" spc="-1" strike="noStrike">
                <a:solidFill>
                  <a:srgbClr val="614020"/>
                </a:solidFill>
                <a:latin typeface="Book Antiqua"/>
              </a:rPr>
              <a:t>Klein-Sacks</a:t>
            </a:r>
            <a:r>
              <a:rPr b="1" lang="es-CL" sz="1800" spc="-1" strike="noStrike">
                <a:solidFill>
                  <a:srgbClr val="614020"/>
                </a:solidFill>
                <a:latin typeface="Book Antiqua"/>
              </a:rPr>
              <a:t>, un grupo de expertos en finanzas que pusieron en practica un plan de contracción de la economía. Sin embargo, estas medidas aumentaron la cesantía existente, ya que se limitó la producción, especialmente en el sector de la construc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7</a:t>
            </a:r>
            <a:r>
              <a:rPr b="1" lang="es-CL" sz="1800" spc="-1" strike="noStrike">
                <a:solidFill>
                  <a:srgbClr val="614020"/>
                </a:solidFill>
                <a:latin typeface="Book Antiqua"/>
              </a:rPr>
              <a:t>	</a:t>
            </a:r>
            <a:r>
              <a:rPr b="1" lang="es-CL" sz="1800" spc="-1" strike="noStrike">
                <a:solidFill>
                  <a:srgbClr val="614020"/>
                </a:solidFill>
                <a:latin typeface="Book Antiqua"/>
              </a:rPr>
              <a:t>- Violentas manifestaciones de protesta en Valparaíso y Santiago, a raíz del alza de la locomoción colectiva decretada  por el gobierno; culminó con varios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Falange Nacional se fusiona con los partidos Conservador, Social-Cristiano y Agrario Laborista para formar el partido Demócrata Cristian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Se deroga la Ley de Defensa de la Democracia, con lo cual el </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rtido Comunista  vuelve a la legali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del Cobre (Lad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numerosas instituciones que contribuyen al desarrollo del país: la Corporación de la Vivienda (Corvi), el Banco del Estado de Chile, la Superintendencia de Educación, el Instituto de Seguros del Estado y el Departamento del Cob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7.2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por primera vez la cédula única oficial para las elecciones presidenciale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ALESSANDRI RODRIGUEZ 1958 - 1964</a:t>
            </a:r>
            <a:endParaRPr b="0" lang="en-US" sz="3200" spc="-1" strike="noStrike">
              <a:solidFill>
                <a:srgbClr val="301800"/>
              </a:solidFill>
              <a:latin typeface="Arial Narrow"/>
            </a:endParaRPr>
          </a:p>
        </p:txBody>
      </p:sp>
      <p:sp>
        <p:nvSpPr>
          <p:cNvPr id="211"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Jorge Alessandri triunfa en las elecciones presidenciales sobre el candidato de la izquierda Salvador Allende, con poco más de 3.000 vot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9</a:t>
            </a:r>
            <a:r>
              <a:rPr b="1" lang="es-CL" sz="1800" spc="-1" strike="noStrike">
                <a:solidFill>
                  <a:srgbClr val="614020"/>
                </a:solidFill>
                <a:latin typeface="Book Antiqua"/>
              </a:rPr>
              <a:t>	</a:t>
            </a:r>
            <a:r>
              <a:rPr b="1" lang="es-CL" sz="1800" spc="-1" strike="noStrike">
                <a:solidFill>
                  <a:srgbClr val="614020"/>
                </a:solidFill>
                <a:latin typeface="Book Antiqua"/>
              </a:rPr>
              <a:t>- Se fija el texto definitivo de creación de la Corporación de la Vivienda (Corvi), organismo mediante el cual se desarrollará el plan habitacional de gobier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21 de agosto se inaugura  la primera estación de televisión del país, por la escuela electrónica de la Universidad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0</a:t>
            </a:r>
            <a:r>
              <a:rPr b="1" lang="es-CL" sz="1800" spc="-1" strike="noStrike">
                <a:solidFill>
                  <a:srgbClr val="614020"/>
                </a:solidFill>
                <a:latin typeface="Book Antiqua"/>
              </a:rPr>
              <a:t>	</a:t>
            </a:r>
            <a:r>
              <a:rPr b="1" lang="es-CL" sz="1800" spc="-1" strike="noStrike">
                <a:solidFill>
                  <a:srgbClr val="614020"/>
                </a:solidFill>
                <a:latin typeface="Book Antiqua"/>
              </a:rPr>
              <a:t>- El 21 de mayo se produce un terremoto que sacude las provincias de Concepción, Osorno, Valdivia y Puerto Montt, dejando gran cantidad de muertos y miles de damnific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mbio de la unidad monetaria: el peso es reemplazado por el escudo; un escudo equivale a 100 pes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acada actividad de la investigadora, compositora e intérprete folclórica Violeta Parra, iniciando un nuevo movimiento musical y cultural </a:t>
            </a:r>
            <a:endParaRPr b="0" lang="en-US" sz="1800" spc="-1" strike="noStrike">
              <a:solidFill>
                <a:srgbClr val="000000"/>
              </a:solidFill>
              <a:latin typeface="Arial Narrow"/>
            </a:endParaRPr>
          </a:p>
        </p:txBody>
      </p:sp>
      <p:pic>
        <p:nvPicPr>
          <p:cNvPr id="212" name="" descr=""/>
          <p:cNvPicPr/>
          <p:nvPr/>
        </p:nvPicPr>
        <p:blipFill>
          <a:blip r:embed="rId1"/>
          <a:stretch/>
        </p:blipFill>
        <p:spPr>
          <a:xfrm>
            <a:off x="723960" y="0"/>
            <a:ext cx="1539720" cy="198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2</a:t>
            </a: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Reforma Agraria (Co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arco de la llamada </a:t>
            </a:r>
            <a:r>
              <a:rPr b="1" i="1" lang="es-CL" sz="1800" spc="-1" strike="noStrike">
                <a:solidFill>
                  <a:srgbClr val="614020"/>
                </a:solidFill>
                <a:latin typeface="Book Antiqua"/>
              </a:rPr>
              <a:t>Alianza para el Progreso</a:t>
            </a:r>
            <a:r>
              <a:rPr b="1" lang="es-CL" sz="1800" spc="-1" strike="noStrike">
                <a:solidFill>
                  <a:srgbClr val="614020"/>
                </a:solidFill>
                <a:latin typeface="Book Antiqua"/>
              </a:rPr>
              <a:t>, plan de reformas sociales y económicas formulado por el presidente norteamericano John Kennedy, el gobierno lleva a cabo un plan de reforma agraria calificado por la oposición como”la reforma del macetero”, debido a su excesivo respeto por el derecho de propie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30 de mayo se inicia el Campeonato Mundial de Fútbol en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Censo Nacional: 8.4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gudiza el descontento popular por la elevada inflación que sobrepasa el 40%. En la población José María Caro, Carabineros dispara contra la multitud dejando 6 muertos y varios herido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DUARDO FREI MONTALVA 1964 - 1970</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Eduardo Frei Montalva es elegido Presidente de la República, con la más alta votación de la historia: 56% de los votos. Su lema es:</a:t>
            </a:r>
            <a:r>
              <a:rPr b="1" i="1" lang="es-CL" sz="1800" spc="-1" strike="noStrike">
                <a:solidFill>
                  <a:srgbClr val="614020"/>
                </a:solidFill>
                <a:latin typeface="Book Antiqua"/>
              </a:rPr>
              <a:t> revolución en libert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5</a:t>
            </a:r>
            <a:r>
              <a:rPr b="1" lang="es-CL" sz="1800" spc="-1" strike="noStrike">
                <a:solidFill>
                  <a:srgbClr val="614020"/>
                </a:solidFill>
                <a:latin typeface="Book Antiqua"/>
              </a:rPr>
              <a:t>	</a:t>
            </a:r>
            <a:r>
              <a:rPr b="1" lang="es-CL" sz="1800" spc="-1" strike="noStrike">
                <a:solidFill>
                  <a:srgbClr val="614020"/>
                </a:solidFill>
                <a:latin typeface="Book Antiqua"/>
              </a:rPr>
              <a:t>- Se crea la Empresa Nacional de Telecomunicaciones (Ente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Movimiento de Izquierda Revolucionaria (Mi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6</a:t>
            </a:r>
            <a:r>
              <a:rPr b="1" lang="es-CL" sz="1800" spc="-1" strike="noStrike">
                <a:solidFill>
                  <a:srgbClr val="614020"/>
                </a:solidFill>
                <a:latin typeface="Book Antiqua"/>
              </a:rPr>
              <a:t>	</a:t>
            </a:r>
            <a:r>
              <a:rPr b="1" lang="es-CL" sz="1800" spc="-1" strike="noStrike">
                <a:solidFill>
                  <a:srgbClr val="614020"/>
                </a:solidFill>
                <a:latin typeface="Book Antiqua"/>
              </a:rPr>
              <a:t>- En el Salvador, mineros que apoyan la huelga de El Teniente, chocan con militares y carabineros, resultando un total de 8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Partido Nacional, a partir de la fusión de los Partidos Liberal y Conservad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7</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l Cobre (“chilenización”), que establece un régimen de asociación entre el Estado y las compañías cupreras extranjer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ficina Nacional de Planificación (Odepla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Sindicalización Campesina y se aprueba la Ley de Reforma Agraria</a:t>
            </a:r>
            <a:endParaRPr b="0" lang="en-US" sz="1800" spc="-1" strike="noStrike">
              <a:solidFill>
                <a:srgbClr val="000000"/>
              </a:solidFill>
              <a:latin typeface="Arial Narrow"/>
            </a:endParaRPr>
          </a:p>
        </p:txBody>
      </p:sp>
      <p:pic>
        <p:nvPicPr>
          <p:cNvPr id="216" name="" descr=""/>
          <p:cNvPicPr/>
          <p:nvPr/>
        </p:nvPicPr>
        <p:blipFill>
          <a:blip r:embed="rId1"/>
          <a:stretch/>
        </p:blipFill>
        <p:spPr>
          <a:xfrm>
            <a:off x="574560" y="0"/>
            <a:ext cx="1582920" cy="198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fontScale="98000"/>
          </a:bodyPr>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8</a:t>
            </a:r>
            <a:r>
              <a:rPr b="1" lang="es-CL" sz="1800" spc="-1" strike="noStrike">
                <a:solidFill>
                  <a:srgbClr val="614020"/>
                </a:solidFill>
                <a:latin typeface="Book Antiqua"/>
              </a:rPr>
              <a:t>	</a:t>
            </a:r>
            <a:r>
              <a:rPr b="1" lang="es-CL" sz="1800" spc="-1" strike="noStrike">
                <a:solidFill>
                  <a:srgbClr val="614020"/>
                </a:solidFill>
                <a:latin typeface="Book Antiqua"/>
              </a:rPr>
              <a:t>- Se aprueba la Ley de Juntas de Vecinos, inserta en el plan de Promoción Popular. Se crean los centros de madres, organizaciones juveniles, deportivas y de apoderados, las cooperativas y los talleres artesanale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en marcha el Plan Regulador de Transporte Metropolitano (anteproyecto del Metro), que establece 5 línea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de Reforma Educacional, que amplía la enseñanza básica a 8 años y establece 4 años de educación media con dos modalidades, científico-humanista y técnico-profesional</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Desarrollo Agropecuario (Indap)</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9</a:t>
            </a:r>
            <a:r>
              <a:rPr b="1" lang="es-CL" sz="1800" spc="-1" strike="noStrike">
                <a:solidFill>
                  <a:srgbClr val="614020"/>
                </a:solidFill>
                <a:latin typeface="Book Antiqua"/>
              </a:rPr>
              <a:t>	</a:t>
            </a:r>
            <a:r>
              <a:rPr b="1" lang="es-CL" sz="1800" spc="-1" strike="noStrike">
                <a:solidFill>
                  <a:srgbClr val="614020"/>
                </a:solidFill>
                <a:latin typeface="Book Antiqua"/>
              </a:rPr>
              <a:t>- Se produce el suceso conocido como “Tacnazo”, encabezado por el general Roberto Viaux</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Reformas a la Constitución: derecho a voto a analfabetos y derecho ciudadano a partir de los 18 años de edad</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que crea la Junta Nacional de Jardines Infantiles, incorporando al sistema educativo, la educación pre-escola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SALVADOR ALLENDE GOSSENS  1970 - 1973</a:t>
            </a:r>
            <a:endParaRPr b="0" lang="en-US" sz="3200" spc="-1" strike="noStrike">
              <a:solidFill>
                <a:srgbClr val="301800"/>
              </a:solidFill>
              <a:latin typeface="Arial Narrow"/>
            </a:endParaRPr>
          </a:p>
        </p:txBody>
      </p:sp>
      <p:sp>
        <p:nvSpPr>
          <p:cNvPr id="219"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Salvador Allende con el 36,3% de los votos, elección ratificada por el Congreso. Es apoyado por la Unidad Popular, colectivo que reúne a los partidos de izquier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Democracia Cristiana presenta a Salvador Allende el Estatuto de Garantías Constitu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un atentado, es asesinado por la ultra derecha, el comandante en Jefe del Ejército René Schneider; su intención es impedir que el Congreso ratifique al Presidente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pra de acciones de la compañía Lota Schwager; se estatizan así las minas de carb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1</a:t>
            </a:r>
            <a:r>
              <a:rPr b="1" lang="es-CL" sz="1800" spc="-1" strike="noStrike">
                <a:solidFill>
                  <a:srgbClr val="614020"/>
                </a:solidFill>
                <a:latin typeface="Book Antiqua"/>
              </a:rPr>
              <a:t>	</a:t>
            </a:r>
            <a:r>
              <a:rPr b="1" lang="es-CL" sz="1800" spc="-1" strike="noStrike">
                <a:solidFill>
                  <a:srgbClr val="614020"/>
                </a:solidFill>
                <a:latin typeface="Book Antiqua"/>
              </a:rPr>
              <a:t>- Se crean los consejos mineros de desarroll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anal Nacional de Televis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julio se lleva a cabo la nacionalización del cobre, aprobada por mayoría absoluta  en el Congreso Se reafirma así la soberanía nacional sobre los recursos naturales del país</a:t>
            </a:r>
            <a:endParaRPr b="0" lang="en-US" sz="1800" spc="-1" strike="noStrike">
              <a:solidFill>
                <a:srgbClr val="000000"/>
              </a:solidFill>
              <a:latin typeface="Arial Narrow"/>
            </a:endParaRPr>
          </a:p>
        </p:txBody>
      </p:sp>
      <p:pic>
        <p:nvPicPr>
          <p:cNvPr id="220" name="" descr=""/>
          <p:cNvPicPr/>
          <p:nvPr/>
        </p:nvPicPr>
        <p:blipFill>
          <a:blip r:embed="rId1"/>
          <a:stretch/>
        </p:blipFill>
        <p:spPr>
          <a:xfrm>
            <a:off x="915840" y="0"/>
            <a:ext cx="141300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obtien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los consejos campesinos y se establecen las medidas para profundizar la Reforma Agraria iniciada duarte el gobierno que le anteced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2</a:t>
            </a:r>
            <a:r>
              <a:rPr b="1" lang="es-CL" sz="1800" spc="-1" strike="noStrike">
                <a:solidFill>
                  <a:srgbClr val="614020"/>
                </a:solidFill>
                <a:latin typeface="Book Antiqua"/>
              </a:rPr>
              <a:t>	</a:t>
            </a:r>
            <a:r>
              <a:rPr b="1" lang="es-CL" sz="1800" spc="-1" strike="noStrike">
                <a:solidFill>
                  <a:srgbClr val="614020"/>
                </a:solidFill>
                <a:latin typeface="Book Antiqua"/>
              </a:rPr>
              <a:t>- Se realiza en Santiago la III reunión de la UNCT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llende es invitado a la Asamblea General de las Naciones Un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movimiento de estudiantes gremialistas se toma la UC. Paran los camioneros, comienza el desabastecimiento y fuertes movilizaciones de descontento por parte de la derecha. Como respuesta se crean organizaciones de base, como los trabajos voluntarios, las juntas de abastecimiento y precio, los cordones industriales, entre o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3</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En junio se produce un intento de golpe conocido como “tanquetaz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el presidente Allende nombra a Augusto Pinochet Comandante en Jefe del Ejér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la Cámara de Diputados, la Corte Suprema, la Contraloría General de la República, los Colegios Profesionales, representan a la opinión pública que el Gobierno ha quedado al margen de la legalidad del país por sus acciones, y advierten la ruptura del Estado de Dere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1 de septiembre las FF.AA.  y Carabineros realizan un golpe de estado. Durante el bombardeo al palacio de La Moneda, el Presidente Allende se suicid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UGUSTO PINOCHET UGARTE  1973 - 1990</a:t>
            </a:r>
            <a:endParaRPr b="0" lang="en-US" sz="3200" spc="-1" strike="noStrike">
              <a:solidFill>
                <a:srgbClr val="301800"/>
              </a:solidFill>
              <a:latin typeface="Arial Narrow"/>
            </a:endParaRPr>
          </a:p>
        </p:txBody>
      </p:sp>
      <p:sp>
        <p:nvSpPr>
          <p:cNvPr id="224"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3</a:t>
            </a:r>
            <a:r>
              <a:rPr b="1" lang="es-CL" sz="2000" spc="-1" strike="noStrike">
                <a:solidFill>
                  <a:srgbClr val="614020"/>
                </a:solidFill>
                <a:latin typeface="Book Antiqua"/>
              </a:rPr>
              <a:t>	</a:t>
            </a:r>
            <a:r>
              <a:rPr b="1" lang="es-CL" sz="2000" spc="-1" strike="noStrike">
                <a:solidFill>
                  <a:srgbClr val="614020"/>
                </a:solidFill>
                <a:latin typeface="Book Antiqua"/>
              </a:rPr>
              <a:t>- Toma el poder una Junta Militar formada por los generales en jefe del Ejército, Aviación, Armada y Carabineros; Augusto Pinochet, Gustvo Leigh, José Toribio Merino y César Mendoza respectivamente. Al año siguiente asume la presidencia el general Pinochet</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14020"/>
                </a:solidFill>
                <a:latin typeface="Book Antiqua"/>
              </a:rPr>
              <a:t>	</a:t>
            </a:r>
            <a:r>
              <a:rPr b="1" lang="es-CL" sz="2000" spc="-1" strike="noStrike">
                <a:solidFill>
                  <a:srgbClr val="614020"/>
                </a:solidFill>
                <a:latin typeface="Book Antiqua"/>
              </a:rPr>
              <a:t>- Se cancelan todos los derechos ciudadanos, se establece el estado de sitio, la censura de prensa, el toque de queda, se proscriben los partidos políticos y todas las organizaciones populares. Se inicia la represión contra los miembros y simpatizantes de la Unidad Popular.</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4</a:t>
            </a:r>
            <a:r>
              <a:rPr b="1" lang="es-CL" sz="2000" spc="-1" strike="noStrike">
                <a:solidFill>
                  <a:srgbClr val="614020"/>
                </a:solidFill>
                <a:latin typeface="Book Antiqua"/>
              </a:rPr>
              <a:t>	</a:t>
            </a:r>
            <a:r>
              <a:rPr b="1" lang="es-CL" sz="2000" spc="-1" strike="noStrike">
                <a:solidFill>
                  <a:srgbClr val="614020"/>
                </a:solidFill>
                <a:latin typeface="Book Antiqua"/>
              </a:rPr>
              <a:t>- Se implanta la política económica neoliberal, se venden las empresas que están en poder del Estado, se liberan precios de todo control, se mantienen  sueldos congelados, jubilaciones y tipos de cambio. Se promulga la nueva ley del trabajo</a:t>
            </a:r>
            <a:endParaRPr b="0" lang="en-US" sz="2000" spc="-1" strike="noStrike">
              <a:solidFill>
                <a:srgbClr val="000000"/>
              </a:solidFill>
              <a:latin typeface="Arial Narrow"/>
            </a:endParaRPr>
          </a:p>
        </p:txBody>
      </p:sp>
      <p:pic>
        <p:nvPicPr>
          <p:cNvPr id="225" name="" descr=""/>
          <p:cNvPicPr/>
          <p:nvPr/>
        </p:nvPicPr>
        <p:blipFill>
          <a:blip r:embed="rId1"/>
          <a:stretch/>
        </p:blipFill>
        <p:spPr>
          <a:xfrm>
            <a:off x="75564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MONTT MONTT</a:t>
            </a:r>
            <a:br>
              <a:rPr sz="3200"/>
            </a:br>
            <a:r>
              <a:rPr b="1" lang="es-CL" sz="3200" spc="-1" strike="noStrike">
                <a:solidFill>
                  <a:srgbClr val="000066"/>
                </a:solidFill>
                <a:latin typeface="Book Antiqua"/>
              </a:rPr>
              <a:t>1906 - 1910</a:t>
            </a:r>
            <a:endParaRPr b="0" lang="en-US" sz="3200" spc="-1" strike="noStrike">
              <a:solidFill>
                <a:srgbClr val="301800"/>
              </a:solidFill>
              <a:latin typeface="Arial Narrow"/>
            </a:endParaRPr>
          </a:p>
        </p:txBody>
      </p:sp>
      <p:sp>
        <p:nvSpPr>
          <p:cNvPr id="15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Pedro Montt, candidato de la Unión  Nacional,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7</a:t>
            </a:r>
            <a:r>
              <a:rPr b="1" lang="es-CL" sz="1800" spc="-1" strike="noStrike">
                <a:solidFill>
                  <a:srgbClr val="614020"/>
                </a:solidFill>
                <a:latin typeface="Book Antiqua"/>
              </a:rPr>
              <a:t>	</a:t>
            </a:r>
            <a:r>
              <a:rPr b="1" lang="es-CL" sz="1800" spc="-1" strike="noStrike">
                <a:solidFill>
                  <a:srgbClr val="614020"/>
                </a:solidFill>
                <a:latin typeface="Book Antiqua"/>
              </a:rPr>
              <a:t>- Censo Nacional: 3.2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dena la construcción del ferrocarril entre Ancud y Castro, así como de la línea a Puert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analfabetismo alcanza a un 49,7% de la pobl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Iquique. Participan alrededor de 10.000 obreros pidiendo el pago de jornales al tipo de cambio de 18 peniques y no en fichas, la libertad de comercio al interior de las oficinas la colocación de pesas para una justa medición en las pulperías, local para instalar una escuela, entre otras peticiones. La huelga culminó con la matanza, por parte del ejército, de más de 2.000 obreros y sus familias en la escuela de Santa Ma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8</a:t>
            </a:r>
            <a:r>
              <a:rPr b="1" lang="es-CL" sz="1800" spc="-1" strike="noStrike">
                <a:solidFill>
                  <a:srgbClr val="614020"/>
                </a:solidFill>
                <a:latin typeface="Book Antiqua"/>
              </a:rPr>
              <a:t>	</a:t>
            </a:r>
            <a:r>
              <a:rPr b="1" lang="es-CL" sz="1800" spc="-1" strike="noStrike">
                <a:solidFill>
                  <a:srgbClr val="614020"/>
                </a:solidFill>
                <a:latin typeface="Book Antiqua"/>
              </a:rPr>
              <a:t>- Luis Orrego Luco publica </a:t>
            </a:r>
            <a:r>
              <a:rPr b="1" i="1" lang="es-CL" sz="1800" spc="-1" strike="noStrike">
                <a:solidFill>
                  <a:srgbClr val="614020"/>
                </a:solidFill>
                <a:latin typeface="Book Antiqua"/>
              </a:rPr>
              <a:t>Casa Grande</a:t>
            </a:r>
            <a:r>
              <a:rPr b="1" lang="es-CL" sz="1800" spc="-1" strike="noStrike">
                <a:solidFill>
                  <a:srgbClr val="614020"/>
                </a:solidFill>
                <a:latin typeface="Book Antiqua"/>
              </a:rPr>
              <a:t>; Blest Gana publica </a:t>
            </a:r>
            <a:r>
              <a:rPr b="1" i="1" lang="es-CL" sz="1800" spc="-1" strike="noStrike">
                <a:solidFill>
                  <a:srgbClr val="614020"/>
                </a:solidFill>
                <a:latin typeface="Book Antiqua"/>
              </a:rPr>
              <a:t>El Loco Estero</a:t>
            </a:r>
            <a:endParaRPr b="0" lang="en-US" sz="1800" spc="-1" strike="noStrike">
              <a:solidFill>
                <a:srgbClr val="000000"/>
              </a:solidFill>
              <a:latin typeface="Arial Narrow"/>
            </a:endParaRPr>
          </a:p>
        </p:txBody>
      </p:sp>
      <p:pic>
        <p:nvPicPr>
          <p:cNvPr id="155" name="" descr=""/>
          <p:cNvPicPr/>
          <p:nvPr/>
        </p:nvPicPr>
        <p:blipFill>
          <a:blip r:embed="rId1"/>
          <a:stretch/>
        </p:blipFill>
        <p:spPr>
          <a:xfrm>
            <a:off x="536400" y="0"/>
            <a:ext cx="1586160" cy="203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042560" y="1700280"/>
            <a:ext cx="8101080" cy="4968720"/>
          </a:xfrm>
          <a:prstGeom prst="rect">
            <a:avLst/>
          </a:prstGeom>
          <a:noFill/>
          <a:ln w="0">
            <a:noFill/>
          </a:ln>
        </p:spPr>
        <p:txBody>
          <a:bodyPr lIns="92160" rIns="92160" tIns="46080" bIns="46080" anchor="t">
            <a:norm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5</a:t>
            </a:r>
            <a:r>
              <a:rPr b="1" lang="es-CL" sz="1800" spc="-1" strike="noStrike">
                <a:solidFill>
                  <a:srgbClr val="614020"/>
                </a:solidFill>
                <a:latin typeface="Book Antiqua"/>
              </a:rPr>
              <a:t>	</a:t>
            </a:r>
            <a:r>
              <a:rPr b="1" lang="es-CL" sz="1800" spc="-1" strike="noStrike">
                <a:solidFill>
                  <a:srgbClr val="614020"/>
                </a:solidFill>
                <a:latin typeface="Book Antiqua"/>
              </a:rPr>
              <a:t>- Se inaugura la línea 1 del Me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7</a:t>
            </a:r>
            <a:r>
              <a:rPr b="1" lang="es-CL" sz="1800" spc="-1" strike="noStrike">
                <a:solidFill>
                  <a:srgbClr val="614020"/>
                </a:solidFill>
                <a:latin typeface="Book Antiqua"/>
              </a:rPr>
              <a:t>	</a:t>
            </a:r>
            <a:r>
              <a:rPr b="1" lang="es-CL" sz="1800" spc="-1" strike="noStrike">
                <a:solidFill>
                  <a:srgbClr val="614020"/>
                </a:solidFill>
                <a:latin typeface="Book Antiqua"/>
              </a:rPr>
              <a:t>- Se disuelve la DINA; la reemplaza la CN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0</a:t>
            </a:r>
            <a:r>
              <a:rPr b="1" lang="es-CL" sz="1800" spc="-1" strike="noStrike">
                <a:solidFill>
                  <a:srgbClr val="000066"/>
                </a:solidFill>
                <a:latin typeface="Book Antiqua"/>
              </a:rPr>
              <a:t>	</a:t>
            </a:r>
            <a:r>
              <a:rPr b="1" lang="es-CL" sz="1800" spc="-1" strike="noStrike">
                <a:solidFill>
                  <a:srgbClr val="614020"/>
                </a:solidFill>
                <a:latin typeface="Book Antiqua"/>
              </a:rPr>
              <a:t>- Con el 67% de los votos, es aprobada mediante plebiscito la nueva Constitución Política, sin registros electo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3</a:t>
            </a:r>
            <a:r>
              <a:rPr b="1" lang="es-CL" sz="1800" spc="-1" strike="noStrike">
                <a:solidFill>
                  <a:srgbClr val="614020"/>
                </a:solidFill>
                <a:latin typeface="Book Antiqua"/>
              </a:rPr>
              <a:t>	</a:t>
            </a:r>
            <a:r>
              <a:rPr b="1" lang="es-CL" sz="1800" spc="-1" strike="noStrike">
                <a:solidFill>
                  <a:srgbClr val="614020"/>
                </a:solidFill>
                <a:latin typeface="Book Antiqua"/>
              </a:rPr>
              <a:t>- Muere Eduardo Frei Montal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yo se inicia la primera protesta nacional, que es seguida por numerosas manifestaciones antidictatoriales; recibe un fuerte apoyo internacional</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5</a:t>
            </a: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6</a:t>
            </a:r>
            <a:r>
              <a:rPr b="1" lang="es-CL" sz="1800" spc="-1" strike="noStrike">
                <a:solidFill>
                  <a:srgbClr val="000066"/>
                </a:solidFill>
                <a:latin typeface="Book Antiqua"/>
              </a:rPr>
              <a:t>	</a:t>
            </a:r>
            <a:r>
              <a:rPr b="1" lang="es-CL" sz="1800" spc="-1" strike="noStrike">
                <a:solidFill>
                  <a:srgbClr val="614020"/>
                </a:solidFill>
                <a:latin typeface="Book Antiqua"/>
              </a:rPr>
              <a:t>- Atentado contra el general Pinochet y su comitiva, realizado por el Frente Manuel Rodríguez (FM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7</a:t>
            </a:r>
            <a:r>
              <a:rPr b="1" lang="es-CL" sz="1800" spc="-1" strike="noStrike">
                <a:solidFill>
                  <a:srgbClr val="614020"/>
                </a:solidFill>
                <a:latin typeface="Book Antiqua"/>
              </a:rPr>
              <a:t>	</a:t>
            </a:r>
            <a:r>
              <a:rPr b="1" lang="es-CL" sz="1800" spc="-1" strike="noStrike">
                <a:solidFill>
                  <a:srgbClr val="614020"/>
                </a:solidFill>
                <a:latin typeface="Book Antiqua"/>
              </a:rPr>
              <a:t>- El Papa Juan Pablo II visita nuestro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8</a:t>
            </a:r>
            <a:r>
              <a:rPr b="1" lang="es-CL" sz="1800" spc="-1" strike="noStrike">
                <a:solidFill>
                  <a:srgbClr val="614020"/>
                </a:solidFill>
                <a:latin typeface="Book Antiqua"/>
              </a:rPr>
              <a:t>	</a:t>
            </a:r>
            <a:r>
              <a:rPr b="1" lang="es-CL" sz="1800" spc="-1" strike="noStrike">
                <a:solidFill>
                  <a:srgbClr val="614020"/>
                </a:solidFill>
                <a:latin typeface="Book Antiqua"/>
              </a:rPr>
              <a:t>- Se inaugura la Carretera Austral, que permitió incorporar la undécima región  al resto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spone el funcionamiento del Congreso Nacional en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042560" y="1700280"/>
            <a:ext cx="792180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pacto de oposición denominado Concertación  de Partidos por la Democra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lebiscito para determinar la continuidad del régimen. La votación mayoritaria se expresó por la opción 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9</a:t>
            </a:r>
            <a:r>
              <a:rPr b="1" lang="es-CL" sz="1800" spc="-1" strike="noStrike">
                <a:solidFill>
                  <a:srgbClr val="000066"/>
                </a:solidFill>
                <a:latin typeface="Book Antiqua"/>
              </a:rPr>
              <a:t>	</a:t>
            </a:r>
            <a:r>
              <a:rPr b="1" lang="es-CL" sz="1800" spc="-1" strike="noStrike">
                <a:solidFill>
                  <a:srgbClr val="614020"/>
                </a:solidFill>
                <a:latin typeface="Book Antiqua"/>
              </a:rPr>
              <a:t>- Se realizan elecciones presidenciales, en las que triunfa el candidato de la Concertación, Patricio Aylwin Azócar.</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Constitución de 1980. Primera Etapa: 11 de septiembre de 1973 a 10 de marzo de 1981</a:t>
            </a:r>
            <a:endParaRPr b="0" lang="en-US" sz="2400" spc="-1" strike="noStrike">
              <a:solidFill>
                <a:srgbClr val="301800"/>
              </a:solidFill>
              <a:latin typeface="Arial Narrow"/>
            </a:endParaRPr>
          </a:p>
        </p:txBody>
      </p:sp>
      <p:sp>
        <p:nvSpPr>
          <p:cNvPr id="2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Constitutiva de la Junta de Gobierno, no derogó ni suspendió la Constitución del 1925. A martir del 13 del mismo mes, comenzaró la clausura del Congreso Nacional, el Tribunal Constitucional y la caducidad de los registros electorales. </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oderes Constituyente y Legislativo quedaron en manos de la Junta de Gobierno.</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11 de marzo de 1974, se da con gran solemnidad la Declaración de Principios del Gobierno de Chile</a:t>
            </a:r>
            <a:r>
              <a:rPr b="1" lang="es-ES_tradnl" sz="1600" spc="-1" strike="noStrike">
                <a:solidFill>
                  <a:srgbClr val="614020"/>
                </a:solidFill>
                <a:latin typeface="Book Antiqua"/>
              </a:rPr>
              <a:t>, documento que expone su pensamiento político-social, inspirador de su filosofía jurídica e institucional.</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el 9 de enero de 1976, se inició la promulgación de “Actas Constitucionales”, que vienen a ser simples decretos leyes que versan sobre materias calificadas por la Junta de tal superior jerarquí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Número 1, crea el Consejo de Estado “como cuerpo supremo consultivo en asuntos de Gobierno y administración civil” y señala su organización y los asuntos en que el Presidente de la República podría solicitar su opinión.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materia más importante entregada particularmente a la revisión del Consejo de Estado, como se dirá más adelante, fue, sin duda, el examen del proyecto de nueva Carta Política.</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Actas Constitucionales Números 2, 3 y 4, se promulgaron todas el 11 de septiembre de 1976, como decretos leyes Nº 1.551, 1.552 y 1.553 y se titularon respectivamente “Bases Esenciales de la Institucionalidad Chilena”, “De los Derechos y Deberes Constitucionales” y “Regímenes de Emergencia”. Es oportuno anotar que, invocando siempre el Poder Constituyente, el Acta Nº 2 fue modificada por el D.L. Nº 1.873; el Acta Nº 3 por los D.L. 1.689, 1.697, 1.873, 2.603, 2.755 y 3.444. El Acta Nº 4  sufrió cambios mediante los D.L. Nº 1.684 y 1.6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Ha de tenerse presente, por otra parte, que con referencia explícita a la Constitución de 1925, además de las modificaciones expresas que quedaron citadas, pueden anotarse las siguientes:</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rtículo 10 del Acta Constitucional Nº 2, derogó todo el Capítulo I y sus artículos 1º, 2º, 3º y 4º.</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úmero 3 derogó los artículos 10 al 20.</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º 4, derogó el Nº 12 del artículo 44 y el Nº 17 del artículo 72. </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14020"/>
                </a:solidFill>
                <a:latin typeface="Book Antiqua"/>
              </a:rPr>
              <a:t>Hacia una nueva Constitución Política.</a:t>
            </a:r>
            <a:endParaRPr b="0" lang="en-US" sz="2600" spc="-1" strike="noStrike">
              <a:solidFill>
                <a:srgbClr val="301800"/>
              </a:solidFill>
              <a:latin typeface="Arial Narrow"/>
            </a:endParaRPr>
          </a:p>
        </p:txBody>
      </p:sp>
      <p:sp>
        <p:nvSpPr>
          <p:cNvPr id="233"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aralelamente a su labor dirigida a la conducción del país, la Junta de Gobierno se preocupó de la preparación de un nuevo estatuto constitucional. El 24 de septiembre de 1973, a insinuación del Ministro de Justicia don Gonzalo Prieto, comenzó a reunirse con tal objeto una comisión, compuesta inicialmente por los señores Enrique Ortuzar, Sergio Diez, Jaime Guzmán y Jorge Ovalle, eligiéndose por ellos como presidente al señor Ortuzar. En sesión de 9 de octubre se incorporaron los señores Enrique Evans, Gustavo Lorca y Alejandro Silva Bascuñan. Posteriormente se incorporó doña Alicia Romo. Por último el 9 de junio de 1977, se incorporaron doña Luz Bulnes, don Raúl Bertelsen y don Juan de Dios Carmona, abandonando los comisionados Evans y Silva</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o cuerpo colegiado se la conoce con el nombre de Comisión Ortuzar. A partir del 21 de septiembre de 1976, se la denominó como “Comisión de Estudios de la Nuva Constitución Política del Estado”.</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su iniciación hasta el término, la comisión celebro 417 sesiones, entre las que se encuentran algunas con carácter reservad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labor cumplida en el lapso en que intervinieron los comisionados primitivamente llamados recayó en los preceptos que forman los Títulos I, II, III, de la nueva Constitución, sobre “Bases de la Institucionalidad”, “Nacionalidad y Ciudadanía” y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circunstancia de haber colaborado numerosos ex fundionarios de una u otra Cámara contribuyó a la más eficiente y correcta redacción de las actas, recogidas en 11 gruesos volúmenes. En estos se observa mayor amplitud en cuanto a las deliberaciones que se desarrollaron durante la primera integración, las cuales ocupan hasta la mitad del Tomo Noveno, si se las compara con los debates producidos en el tiempo de su segunda conformación.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 las sesiones no sólo concurrieron los integrantes de la Comisión, sino que, al iniciarse el estudio de las principales materias, se escuchó además, a profesores universitarios destacados, profesionales, dirigentes gremiales, técnicos y altos funcionarios del Estad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Recibió también el aporte de varias subcomisiones , las que formularon dictámenes en las siguientes materias:</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scentralización administrativa y region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Inscripciones electorales y ley de elecciones.</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Medios de comunicación soci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recho de propiedad.</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oder judicial.</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Una primera etapa de labores efectuadas por la Comisión Ortuzar se concretó en la redacción de un texto llamado a fijar las orientaciones básicas del anteproyecto de Ley Fundamental. Con tal propósito se desarrollaron los debates registrados en las actas de reuniones 9ª a 18ª. Tal es el origen del documento denominado “Metas u objetivos fundamentales en que deberá inspirarse la nueva Constitución Política del Estado”, aprobado por la Junta de Gobierno el 26 de noviembre de 1973.</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comisión se dedicó, en una segunda etapa, a estudiar un proyecto de reforma constitucional sobre “Gobierno interior y régimen de administración interior” que hizo llegar la Junta de Gobierno y a cuyo análisis dedicó 25ª y 28ª a 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una tercera etapa, la comisión inició la discusión particular de la preceptiva del proyecto de su nueva Carta, en la sesión 37ª hasta la sesión 54ª. En estas se aprueban las disposiciones que habrán de conformar el Capítulo I del anteproyecto sobre Bases de la Institucionalidad. En la sesión 56ª comienza el debate del Capitulo II sobre Nacionalidad y Ciudadanía. La sesión 83ª abre la deliberación general del Capitulo III “De los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prendiendo los objetivos señalados por el Presidente de la República, en comunicación de 16 de agosto de 1978, la Comisión Ortuzar le hizo llegar “a partir de los lineamientos básicos” del oficio de 10 de noviembre anterior, sus “Proposiciones e ideas precisas relativas al futuro texto constitucional”. Despachado ese primer informe, desde la sesión 410ª, entró la comisión a revisar y preparar el articulado que concretaba las ideas contenidas en aquel dictamen, tarea que se prolongó hasta la reunión final. Mediante oficio del 18 de octubre de 1978m la Comisión envió al presidente el texto completo del articulado del anteproyecto de nueva Constitución, que se dio a conocer a la prensa el día sigui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vacuado el informe de la Comisión Ortuzar, y haciendo efectivos sus anuncios, el general Pinochet, solicitó al Consejo de Estado, su parecer sobre el proyecto emanado por ella. El Consejo de Estado, al comenzar el cumplimiento de la misión que se le confiara, hizo un llamado público para que se le presentaran sugerencias y, en efecto, dentro del plazo “se recibieron alrededor de 150 indicaciones, muchas de ellas contenidas en estudios completos, referidos a la integridad del anteproyecto, y todas concebidas con la seriedad que el Consejo esperab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ictamen del Consejo comprende la proposición de diversas disposiciones de carácter transitorio, y entre ellas las relativas al establecimiento de un período de 5 años, en el que se prorrogaría tanto la función del presidente Pinochet como la de la Junta de Gobierno, período en cuyo curso no se efectuarían elecciones de parlamentarios, pero en el que la función legislativa correspondería a diputados designados por la misma Junta y a senadores nombrados por el Presidente de la Repúblic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discurso de 10 de agosto de 1980, el general Pinochet informó que la Junta había aprobado la Nueva Constitución y que la sometería a plebisci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9</a:t>
            </a:r>
            <a:r>
              <a:rPr b="1" lang="es-CL" sz="1800" spc="-1" strike="noStrike">
                <a:solidFill>
                  <a:srgbClr val="614020"/>
                </a:solidFill>
                <a:latin typeface="Book Antiqua"/>
              </a:rPr>
              <a:t>	</a:t>
            </a:r>
            <a:r>
              <a:rPr b="1" lang="es-CL" sz="1800" spc="-1" strike="noStrike">
                <a:solidFill>
                  <a:srgbClr val="614020"/>
                </a:solidFill>
                <a:latin typeface="Book Antiqua"/>
              </a:rPr>
              <a:t>- Se funda la Federación Obrera de Chile (FOCh), de caráct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utu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Se inauguran las secciones argentinas y chilenas del ferrocarril transandi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las obras del puert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termina la construcción de las Escuela y Museo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gosto muere Pedro Montt en Bremen, Alemania</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1 de agosto de 1980 se publicó el D.L. Nº 3.464, fechado el 8, por el cual “la Junta de Gobierno, en ejercicio del Poder Constituyente, ha acordado aprobar como nueva Constitución Política de la República, sujeta a ratificación por plebiscito”, la que se transcribe en ese cuerpo normat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5 de octubre el Colegio Escrutador Nacional dio a conocer el siguiente resultado: total si: 67.04%; total no: 30.19%; nulos: 2.77%.</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3 de octubre, un grupo de ciudadanos pertenecientes a diversas corrientes opositoras, presentó un reclamo al Colegio Escrutados Nacional.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ecreto promulgatorio de la nueva Constitución, fechado el 21 de octubre de 1980, se publicó en el Diario Oficial del 24 de ese mes, con Nº 1.150 del Ministerio del Interior. </a:t>
            </a:r>
            <a:r>
              <a:rPr b="1" i="1" lang="es-ES_tradnl" sz="1600" spc="-1" strike="noStrike">
                <a:solidFill>
                  <a:srgbClr val="614020"/>
                </a:solidFill>
                <a:latin typeface="Book Antiqua"/>
              </a:rPr>
              <a:t>La presente Constitución entrará en vigencia 6 meses después de ser aprobada mediante plebiscito, con excepción de las disposiciones transitorias novena y vigesimotercera que tendrán vigor desde la fecha de esa aprobación. Su texto oficial será el que consta en este decreto ley.</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Segunda Etapa. 11 de marzo de 1981 </a:t>
            </a:r>
            <a:br>
              <a:rPr sz="2400"/>
            </a:br>
            <a:r>
              <a:rPr b="1" lang="es-CL" sz="2400" spc="-1" strike="noStrike">
                <a:solidFill>
                  <a:srgbClr val="614020"/>
                </a:solidFill>
                <a:latin typeface="Book Antiqua"/>
              </a:rPr>
              <a:t>al 5 de octubre de 1988.</a:t>
            </a:r>
            <a:endParaRPr b="0" lang="en-US" sz="2400" spc="-1" strike="noStrike">
              <a:solidFill>
                <a:srgbClr val="301800"/>
              </a:solidFill>
              <a:latin typeface="Arial Narrow"/>
            </a:endParaRPr>
          </a:p>
        </p:txBody>
      </p:sp>
      <p:sp>
        <p:nvSpPr>
          <p:cNvPr id="240" name=""/>
          <p:cNvSpPr/>
          <p:nvPr/>
        </p:nvSpPr>
        <p:spPr>
          <a:xfrm>
            <a:off x="1066680" y="1828800"/>
            <a:ext cx="807732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atención a que el general Pinochet ejerció efectiva y directamente la Jefatura de Estado durante los 8 años por los que fue confiada tal función, no correspondió dar aplicación a la norma 16ª transitoria, que señalaba la forma de subrogación en casos de impedimentos temporales del Presidente de la República, ni tampoco la regla siguiente de esta índole, que preveia diversas soluciones para el caso de vacanci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ejercería, por unanimidad de sus componentes, como atribución exclusiva, el Poder Constituyente, sujeto siempre a aprobación plebiscitari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por la unanimidad de sus miembros contó entre sus atribuciones, las de “ejercer el Poder Legislativo y de dictar las leyes interpretativas de la Constitución que fueren necesarias”. Las leyes debían llevar las firmas de los miembros de la Junta y del Presidente.</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s reglas transitorias no privaron de aplicación a las normas permanentes de la Carta referidas al poder judicial, y únicamente dispuso, en el inciso segundo de la regla octava de aquel carácter, que “las normas relativas a la edad establecidas en el inciso 2º del art. 77 no regirán respecto de los magistrados de los tribunales superiores de justicia en servicio a la fecha de vigencia de esta Constit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1752480"/>
            <a:ext cx="807732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receptos relativos al Tribunal Constitucional debieron regir simultáneamente con el comienzo de vigencia de la Ley Fundamental, cuyas reglas 4ª, 9ª, 21ª y 22ª transitorias tuvieron por objeto facilitar la instalación y el funcionamiento del tribunal y adaptar sus facultades a las circunstancias propias del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l Presidente de la República cupo designar al Controlador General de la República con acuerdo de la Junt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eríodo de transición el Consejo de Seguridad Nacional quedó presidido por el Jefe de Estado e integrado por los miembros de la Junta, por el presidente de la Corte Suprema y por el Presidente del Consejo de Est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normas permanentes de la Constitución comprendidas en su Capítulo XIII, que lleva el título de Gobierno y Administración Interior del Estado, debieron aplicarse de inmediato al ponerse ellas en vigenci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residente pudo decretar, por sí mismo, los estados de emergencia y catástrofe, pero requería el acuerdo de la Junta para declarar la guerra y decretar los estados de asamblea y de sit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66680" y="1752480"/>
            <a:ext cx="80773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rimer semestre de 1986, el general Pinochet reveló en forma cada vez más evidente, su propósito de lelgar a ser propuesto por las Fuerzas Armadas para la ratificación de su nombre en el plebiscito rpevisto según las nromas transitorias de la Carta; ello llevó a la oposición a mpulsar nuevas movilizaciones sociales contrarias al régim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lebiscito fue convocado para el día 5 de octubre de 1988, encontrándose ya inscritos 7.435.913 ciudadanos. El acto se efectuó el día de la convocatoria, votando 7.251.943 ciudadanos, o sea, el 97.3% de los inscritos, y su resultado fue un 43% de personas que se pronunciaron por el si, 54.7% que lo hicieron por el no, 0.9% en blanco y 1.3% nul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Tercera Etapa. 5 de octubre de 1988</a:t>
            </a:r>
            <a:br>
              <a:rPr sz="2400"/>
            </a:br>
            <a:r>
              <a:rPr b="1" lang="es-CL" sz="2400" spc="-1" strike="noStrike">
                <a:solidFill>
                  <a:srgbClr val="614020"/>
                </a:solidFill>
                <a:latin typeface="Book Antiqua"/>
              </a:rPr>
              <a:t> al 11 de marzo de 1990.</a:t>
            </a:r>
            <a:endParaRPr b="0" lang="en-US" sz="2400" spc="-1" strike="noStrike">
              <a:solidFill>
                <a:srgbClr val="301800"/>
              </a:solidFill>
              <a:latin typeface="Arial Narrow"/>
            </a:endParaRPr>
          </a:p>
        </p:txBody>
      </p:sp>
      <p:sp>
        <p:nvSpPr>
          <p:cNvPr id="244" name="PlaceHolder 2"/>
          <p:cNvSpPr>
            <a:spLocks noGrp="1"/>
          </p:cNvSpPr>
          <p:nvPr>
            <p:ph/>
          </p:nvPr>
        </p:nvSpPr>
        <p:spPr>
          <a:xfrm>
            <a:off x="838080" y="1599840"/>
            <a:ext cx="8305920" cy="5257800"/>
          </a:xfrm>
          <a:prstGeom prst="rect">
            <a:avLst/>
          </a:prstGeom>
          <a:noFill/>
          <a:ln w="0">
            <a:noFill/>
          </a:ln>
        </p:spPr>
        <p:txBody>
          <a:bodyPr lIns="92160" rIns="92160" tIns="46080" bIns="46080" anchor="t">
            <a:normAutofit fontScale="95000"/>
          </a:bodyPr>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14 de octubre de 1988 se dio a conocer por la Concertación de Partidos por la Democracia una solemne declaración en la que sostenía que una transición consensual a la democracia, requería los cambios constitucionales y legales que el texto recomendaba y que recaían fundamentalmente en los preceptos relativos a la reforma de la Carta, a la forma de elección del Congreso, a la garantía de un efectivo pluralismo político, a la más adecuada integración del Consejo de Seguridad Nacional e índole de sus facultades, y a las condiciones de inamovilidad de los Comandantes en Jefe de las Fuerzas Armadas. El general Pinochet, al recibir el documento, expresó que cualquier proposición que, bien inspirada, tenga por objeto perfeccionar el orden institucional, merecía la atención del Gobierno, al tiempo que rechazó todo intento de desnaturalizar, debilitar o desconocer la Constitución. </a:t>
            </a: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21 de noviembre de 1988 se celebró la reunión constitutiva de la Comisión de Reformas Constitucionales de la Consertación, que presentó dos días después un informe que denominó “Proposición para una reforma mínima a la Constitución de 1980”. Los principales puntos buscaban facilitar el procedimiento de reforma de la Carta, introducir el sistema de representación proporcional en las elecciones, dar a todos los miembros tanto del Senado como de la Cámara de Diputados origen emanado directamente del electorado, modificar el discutido artículo 8º, integrar con el Presidente de la Cámara de Diputados el Consejo de Seguridad Nacional y atempurar la inamovilidad de los Comandantes en Jefe de las Fuerzas Armadas. Renovación Nacional, el 2 de diciembre, presento un proyecto de reforma bajo el nombre de “Proposiciones para una reforma de la Constitución de 1980”. Se reiteraba el contenido anterior, e incorporaba la supresión de la incompatibilidad de la militancia partidista con la dirección gremial, precisión de los efectos de la vacancia del cargo de Jefe de Estado, eliminación de la Facultad del Presidente de disolver la Cámara de Diputados, introducción de restricciones en cuanto a la amplitud del régimen de los estados excepcionales, forma de composición de ambas cámaras y fortalecimiento de la fiscalización entregada a la Cámara de Diputados. </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7000"/>
          </a:bodyPr>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UDI, por su parte, comunicó publicamente a la ciudadanía sus propias proposiciones. Ellas giraban en torno a la eliminación de la incompatibilidad gremial y política, a la facultad de disolver la Cámara, al tiempo de duración de los estados excepcionales, a dividor en dos siete de las circunscripciones senatoriales, a recomendar diversos cambios en materia de inhabilidades, a formas de cesación en el cargo e inviolabilidad parlamentaria, y a exigir la intervención de dos Congresos sucesivos para la reforma de determinados Capítulos de la Ley Fundamental.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Ministro del Interior condormó el 20 de marzo, un grupo asesor técnico de abogados que le asesoraran en la redacción de las reformas aceptables.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Tanto la Concertación como RN, aprobaron el informe que elaborara la Comisión Técnica, formada por ambas corrientes. El informe publicado el 5 de abril concretó su proposición en los siguientes temas, que es del caso mencionar en atención a que iban a ser el origen más directo de las reformas que se someterían a plebiscito:</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8000"/>
          </a:bodyPr>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Robustecimiento de las garantías constitucionales y vigencia de los derechos human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iversa formulación del artículo 8.</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erogación de la inhabilidad de los dirigentes gremiales para ser miembros de partidos polític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uración de 4 años del próximo gobiern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iminación de la facultad del Presidente de disolver la Cámara de Diputad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evación de 120 a 150 el número de diputados y a 50 el de senadores; generación democrática del senado; establecimiento de un sistema electoral corregid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Incorporación del Presidente de la Cámara de Diputados y del Controlador General de la República al Consejo de Seguridad Nacional, señalando que la atribución de ese organismo no es “representar” sino “expresar opinión” y limitación del período de inamovilidad de los Comandantes en Jefe.</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Fijación en 3/5 de los diputados y senadores en ejercicio el quorum requerido para las reformas constitucionales; dar paso al recurso al plebiscito si el Presidente rechaza la reforma aprobada por el Congreso; establecer la mayoría de los diputados y senadores en ejercicio como quorum de aprobación de las leyes interpretativas, orgánicas consittucionales y de quorum calificado.</a:t>
            </a:r>
            <a:endParaRPr b="0" lang="en-US" sz="1400" spc="-1" strike="noStrike">
              <a:solidFill>
                <a:srgbClr val="000000"/>
              </a:solidFill>
              <a:latin typeface="Arial Narrow"/>
            </a:endParaRPr>
          </a:p>
          <a:p>
            <a:pPr marL="3358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pués de numerosos contactos privados entre los distintos actores, finalmente el 31 de mayo, el Presidente Pinochet dirigió un mensaje a la Nación en que anunció un consenso concretado entre el Gobierno y oposición en orden a proponer los puntos encaminados a perfeccionar la Constitución Política. </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virtud del decretro del Ministerio del Interior Nº 939, de 15 de junio de 1989, se convocó a plebiscito para el día 30 de julio de ese año. El 85.7% de los votantes aprobaron el proyecto.</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os cambios introducidos por el plebiscito se incorporaron a la Constitución de 1980 mediante la promulgación de la ley Nº 18.825, publicada el 17 de agosto de 1989</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ATRICIO AYLWIN AZOCAR  1990 - 1994</a:t>
            </a:r>
            <a:endParaRPr b="0" lang="en-US" sz="3200" spc="-1" strike="noStrike">
              <a:solidFill>
                <a:srgbClr val="301800"/>
              </a:solidFill>
              <a:latin typeface="Arial Narrow"/>
            </a:endParaRPr>
          </a:p>
        </p:txBody>
      </p:sp>
      <p:sp>
        <p:nvSpPr>
          <p:cNvPr id="249"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0</a:t>
            </a:r>
            <a:r>
              <a:rPr b="1" lang="es-CL" sz="1800" spc="-1" strike="noStrike">
                <a:solidFill>
                  <a:srgbClr val="614020"/>
                </a:solidFill>
                <a:latin typeface="Book Antiqua"/>
              </a:rPr>
              <a:t>	</a:t>
            </a:r>
            <a:r>
              <a:rPr b="1" lang="es-CL" sz="1800" spc="-1" strike="noStrike">
                <a:solidFill>
                  <a:srgbClr val="614020"/>
                </a:solidFill>
                <a:latin typeface="Book Antiqua"/>
              </a:rPr>
              <a:t>- Con la elección de Patricio Aylwin se inicia un gobierno de transición a la democra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bril el Congreso aprueba la creación del Servicio Nacional de la Mujer (SERNAM)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mayo se crea la Comisión Nacional de Verdad y Reconciliación, cuyo objetivo fue contribuir al esclarecimiento de la verdad sobre las violaciones a los derechos humanos cometidas por el régimen anteri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ntierran con honores en el Cementerio General los restos del Presidente Salvador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berto Matta recibe el premio Nacional de Ar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1</a:t>
            </a:r>
            <a:r>
              <a:rPr b="1" lang="es-CL" sz="1800" spc="-1" strike="noStrike">
                <a:solidFill>
                  <a:srgbClr val="614020"/>
                </a:solidFill>
                <a:latin typeface="Book Antiqua"/>
              </a:rPr>
              <a:t>	</a:t>
            </a:r>
            <a:r>
              <a:rPr b="1" lang="es-CL" sz="1800" spc="-1" strike="noStrike">
                <a:solidFill>
                  <a:srgbClr val="614020"/>
                </a:solidFill>
                <a:latin typeface="Book Antiqua"/>
              </a:rPr>
              <a:t>- Amplia apertura internacional debido a la recuperación democrát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habilita la Estación Mapocho como Centro Cultur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n el Museo de Bellas Artes la exposición Cuerpos Pintados, en la cual 45 pintores chilenos utilizaron como soporte </a:t>
            </a:r>
            <a:endParaRPr b="0" lang="en-US" sz="1800" spc="-1" strike="noStrike">
              <a:solidFill>
                <a:srgbClr val="000000"/>
              </a:solidFill>
              <a:latin typeface="Arial Narrow"/>
            </a:endParaRPr>
          </a:p>
        </p:txBody>
      </p:sp>
      <p:pic>
        <p:nvPicPr>
          <p:cNvPr id="250" name="" descr=""/>
          <p:cNvPicPr/>
          <p:nvPr/>
        </p:nvPicPr>
        <p:blipFill>
          <a:blip r:embed="rId1"/>
          <a:stretch/>
        </p:blipFill>
        <p:spPr>
          <a:xfrm>
            <a:off x="685800" y="0"/>
            <a:ext cx="1566720" cy="1989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uerpos de modelos para plasmar sus obr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ndación Salvador Allende cuyos objetivos son recuperar para el patrimonio cultural del país, las obras de arte que pertenecieron  al Presidente Allende y que habían sido sustraídas y  muchas de ellas extraviadas, durante el golpe militar de 1973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2</a:t>
            </a:r>
            <a:r>
              <a:rPr b="1" lang="es-CL" sz="1800" spc="-1" strike="noStrike">
                <a:solidFill>
                  <a:srgbClr val="614020"/>
                </a:solidFill>
                <a:latin typeface="Book Antiqua"/>
              </a:rPr>
              <a:t>	</a:t>
            </a:r>
            <a:r>
              <a:rPr b="1" lang="es-CL" sz="1800" spc="-1" strike="noStrike">
                <a:solidFill>
                  <a:srgbClr val="614020"/>
                </a:solidFill>
                <a:latin typeface="Book Antiqua"/>
              </a:rPr>
              <a:t>- Elecciones Municipal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fin a la Vicaría de la Solidaridad y se crea la Vicaría de la Esperanza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compañía “Gran Circo Teatro” revoluciona el esquema tradicional del teatro chileno, bajo la dirección de Andrés Pérez, pone en escena la desde 1988 la obra “La Negra Ester”, basada en la vida de Roberto Parra. Llevan también a las tablas una adaptació del libro maya el PopolVuh</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3</a:t>
            </a:r>
            <a:r>
              <a:rPr b="1" lang="es-CL" sz="1800" spc="-1" strike="noStrike">
                <a:solidFill>
                  <a:srgbClr val="614020"/>
                </a:solidFill>
                <a:latin typeface="Book Antiqua"/>
              </a:rPr>
              <a:t>	</a:t>
            </a:r>
            <a:r>
              <a:rPr b="1" lang="es-CL" sz="1800" spc="-1" strike="noStrike">
                <a:solidFill>
                  <a:srgbClr val="614020"/>
                </a:solidFill>
                <a:latin typeface="Book Antiqua"/>
              </a:rPr>
              <a:t>- Juan Pablo II canoniza a Sor Teresa de Los And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n las elecciones Presidenciales y Parlamentarias. Eduardo Frei Ruiz Tagle es elegido Presidente con el 58% de los votos</a:t>
            </a: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BARROS LUCO 1910 - 1915</a:t>
            </a:r>
            <a:endParaRPr b="0" lang="en-US" sz="3200" spc="-1" strike="noStrike">
              <a:solidFill>
                <a:srgbClr val="301800"/>
              </a:solidFill>
              <a:latin typeface="Arial Narrow"/>
            </a:endParaRPr>
          </a:p>
        </p:txBody>
      </p:sp>
      <p:sp>
        <p:nvSpPr>
          <p:cNvPr id="158"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Ramón Barros Luco es elegido Presiden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lebración del Centenario de la Independencia con un gran desfile en el paseo de la Alam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motivo del Centenario se inaugura una exposición  de arte, en la que participan  más de 2.000 obras de artistas nacionales e interna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1</a:t>
            </a:r>
            <a:r>
              <a:rPr b="1" lang="es-CL" sz="1800" spc="-1" strike="noStrike">
                <a:solidFill>
                  <a:srgbClr val="000066"/>
                </a:solidFill>
                <a:latin typeface="Book Antiqua"/>
              </a:rPr>
              <a:t>	</a:t>
            </a:r>
            <a:r>
              <a:rPr b="1" lang="es-CL" sz="1800" spc="-1" strike="noStrike">
                <a:solidFill>
                  <a:srgbClr val="614020"/>
                </a:solidFill>
                <a:latin typeface="Book Antiqua"/>
              </a:rPr>
              <a:t>- Se inicia la construcción de la Escuela de Ingeniería y del puerto de San Anton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dquiere edificio del monasterio de las monjas Claras para construir la Biblioteca Nacional, el Museo Histórico y el Archiv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alo Bulnes publica “Historia de  la Guerra del Pacíf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2</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funda el partido Socialista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riano Latorre publica </a:t>
            </a:r>
            <a:r>
              <a:rPr b="1" i="1" lang="es-CL" sz="1800" spc="-1" strike="noStrike">
                <a:solidFill>
                  <a:srgbClr val="614020"/>
                </a:solidFill>
                <a:latin typeface="Book Antiqua"/>
              </a:rPr>
              <a:t>Cuentos del Mau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3</a:t>
            </a:r>
            <a:r>
              <a:rPr b="1" lang="es-CL" sz="1800" spc="-1" strike="noStrike">
                <a:solidFill>
                  <a:srgbClr val="614020"/>
                </a:solidFill>
                <a:latin typeface="Book Antiqua"/>
              </a:rPr>
              <a:t>	</a:t>
            </a:r>
            <a:r>
              <a:rPr b="1" lang="es-CL" sz="1800" spc="-1" strike="noStrike">
                <a:solidFill>
                  <a:srgbClr val="614020"/>
                </a:solidFill>
                <a:latin typeface="Book Antiqua"/>
              </a:rPr>
              <a:t>- Se funda el liceo José Victorino Lastarrea, en el sector de Providencia  </a:t>
            </a:r>
            <a:endParaRPr b="0" lang="en-US" sz="1800" spc="-1" strike="noStrike">
              <a:solidFill>
                <a:srgbClr val="000000"/>
              </a:solidFill>
              <a:latin typeface="Arial Narrow"/>
            </a:endParaRPr>
          </a:p>
        </p:txBody>
      </p:sp>
      <p:pic>
        <p:nvPicPr>
          <p:cNvPr id="159" name="" descr=""/>
          <p:cNvPicPr/>
          <p:nvPr/>
        </p:nvPicPr>
        <p:blipFill>
          <a:blip r:embed="rId1"/>
          <a:stretch/>
        </p:blipFill>
        <p:spPr>
          <a:xfrm>
            <a:off x="541440" y="0"/>
            <a:ext cx="1663560" cy="1989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rque de los Reyes, con la visita de los reyes de Españ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4</a:t>
            </a:r>
            <a:r>
              <a:rPr b="1" lang="es-CL" sz="1800" spc="-1" strike="noStrike">
                <a:solidFill>
                  <a:srgbClr val="614020"/>
                </a:solidFill>
                <a:latin typeface="Book Antiqua"/>
              </a:rPr>
              <a:t>	</a:t>
            </a:r>
            <a:r>
              <a:rPr b="1" lang="es-CL" sz="1800" spc="-1" strike="noStrike">
                <a:solidFill>
                  <a:srgbClr val="614020"/>
                </a:solidFill>
                <a:latin typeface="Book Antiqua"/>
              </a:rPr>
              <a:t>- Se inaugura el actual aeropuerto Arturo Merino Benítez, cuya superficie supera los 24.000 metros cuadr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rzo asume la Presidencia de la República Eduardo Frei Ruiz Tagle</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mpresas norteamericanas inician explotación minera de cobre en Chuquicama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urge la primera empresa distribuidora de combustible (bencina y parafina) en Chile. Al iniciarse el siglo éste era vendido en las ciudades a lomo de mula en tambores de 5 galo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4</a:t>
            </a:r>
            <a:r>
              <a:rPr b="1" lang="es-CL" sz="1800" spc="-1" strike="noStrike">
                <a:solidFill>
                  <a:srgbClr val="614020"/>
                </a:solidFill>
                <a:latin typeface="Book Antiqua"/>
              </a:rPr>
              <a:t>	</a:t>
            </a:r>
            <a:r>
              <a:rPr b="1" lang="es-CL" sz="1800" spc="-1" strike="noStrike">
                <a:solidFill>
                  <a:srgbClr val="614020"/>
                </a:solidFill>
                <a:latin typeface="Book Antiqua"/>
              </a:rPr>
              <a:t>- Estalla la Primera Guerra Mundial; Chile se mantiene neu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Regadí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los Juegos Florales se leen </a:t>
            </a:r>
            <a:r>
              <a:rPr b="1" i="1" lang="es-CL" sz="1800" spc="-1" strike="noStrike">
                <a:solidFill>
                  <a:srgbClr val="614020"/>
                </a:solidFill>
                <a:latin typeface="Book Antiqua"/>
              </a:rPr>
              <a:t>Sonetos de la muerte,</a:t>
            </a:r>
            <a:r>
              <a:rPr b="1" lang="es-CL" sz="1800" spc="-1" strike="noStrike">
                <a:solidFill>
                  <a:srgbClr val="614020"/>
                </a:solidFill>
                <a:latin typeface="Book Antiqua"/>
              </a:rPr>
              <a:t> de Gabriela Mis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Eduardo Barrios publica </a:t>
            </a:r>
            <a:r>
              <a:rPr b="1" i="1" lang="es-CL" sz="1800" spc="-1" strike="noStrike">
                <a:solidFill>
                  <a:srgbClr val="614020"/>
                </a:solidFill>
                <a:latin typeface="Book Antiqua"/>
              </a:rPr>
              <a:t>El niño que enloqueció de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la Silla”, relativa al descanso de los empleados de ccomerc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la Sociedad de Autores Teatrales Chilenos (SATCh)</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LUIS SANFUENTES ANDONAEGUI  1915 - 1920</a:t>
            </a:r>
            <a:endParaRPr b="0" lang="en-US" sz="3200" spc="-1" strike="noStrike">
              <a:solidFill>
                <a:srgbClr val="301800"/>
              </a:solidFill>
              <a:latin typeface="Arial Narrow"/>
            </a:endParaRPr>
          </a:p>
        </p:txBody>
      </p:sp>
      <p:sp>
        <p:nvSpPr>
          <p:cNvPr id="162"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Juan Luis Sanfuentes es elegido Presidente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imera manifestación de mujeres obreras en Punta Arenas, con motivo del Día Internacional de la Mujer, que había sido acordado por la  Social Democracia en 1910, en Copenhagen. La propuesta fue obra de la maestra alemana Clara Zetkin, en recuerdo a las 109 obreras textiles que el 8 de marzo de 1857 murieron calcinadas en un incendio de la industria Cotton de N.Y.,  en Estados Unid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6</a:t>
            </a:r>
            <a:r>
              <a:rPr b="1" lang="es-CL" sz="1800" spc="-1" strike="noStrike">
                <a:solidFill>
                  <a:srgbClr val="000066"/>
                </a:solidFill>
                <a:latin typeface="Book Antiqua"/>
              </a:rPr>
              <a:t>	</a:t>
            </a:r>
            <a:r>
              <a:rPr b="1" lang="es-CL" sz="1800" spc="-1" strike="noStrike">
                <a:solidFill>
                  <a:srgbClr val="614020"/>
                </a:solidFill>
                <a:latin typeface="Book Antiqua"/>
              </a:rPr>
              <a:t>- Promulgación de  Ley sobre Accidentes del Trabaj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7</a:t>
            </a:r>
            <a:r>
              <a:rPr b="1" lang="es-CL" sz="1800" spc="-1" strike="noStrike">
                <a:solidFill>
                  <a:srgbClr val="614020"/>
                </a:solidFill>
                <a:latin typeface="Book Antiqua"/>
              </a:rPr>
              <a:t>	</a:t>
            </a:r>
            <a:r>
              <a:rPr b="1" lang="es-CL" sz="1800" spc="-1" strike="noStrike">
                <a:solidFill>
                  <a:srgbClr val="614020"/>
                </a:solidFill>
                <a:latin typeface="Book Antiqua"/>
              </a:rPr>
              <a:t>- Ley de Descanso Dominical y de servicio de Cunas en las fáb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érmino de la Primera Guerra Mundial; Chile se incorpora a la Liga de las Nacio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8</a:t>
            </a:r>
            <a:r>
              <a:rPr b="1" lang="es-CL" sz="1800" spc="-1" strike="noStrike">
                <a:solidFill>
                  <a:srgbClr val="614020"/>
                </a:solidFill>
                <a:latin typeface="Book Antiqua"/>
              </a:rPr>
              <a:t>	</a:t>
            </a:r>
            <a:r>
              <a:rPr b="1" lang="es-CL" sz="1800" spc="-1" strike="noStrike">
                <a:solidFill>
                  <a:srgbClr val="614020"/>
                </a:solidFill>
                <a:latin typeface="Book Antiqua"/>
              </a:rPr>
              <a:t>-  Se designa arzobispo a Crescente Errázuri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retiro y previsión social del personal de ferrocarri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9</a:t>
            </a:r>
            <a:r>
              <a:rPr b="1" lang="es-CL" sz="1800" spc="-1" strike="noStrike">
                <a:solidFill>
                  <a:srgbClr val="000066"/>
                </a:solidFill>
                <a:latin typeface="Book Antiqua"/>
              </a:rPr>
              <a:t>	</a:t>
            </a:r>
            <a:r>
              <a:rPr b="1" lang="es-CL" sz="1800" spc="-1" strike="noStrike">
                <a:solidFill>
                  <a:srgbClr val="614020"/>
                </a:solidFill>
                <a:latin typeface="Book Antiqua"/>
              </a:rPr>
              <a:t>- Se funda la Universidad de Concep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dolfo Lenz publica en los Anales de la Universidad de Chile su </a:t>
            </a:r>
            <a:endParaRPr b="0" lang="en-US" sz="1800" spc="-1" strike="noStrike">
              <a:solidFill>
                <a:srgbClr val="000000"/>
              </a:solidFill>
              <a:latin typeface="Arial Narrow"/>
            </a:endParaRPr>
          </a:p>
        </p:txBody>
      </p:sp>
      <p:pic>
        <p:nvPicPr>
          <p:cNvPr id="163" name="" descr=""/>
          <p:cNvPicPr/>
          <p:nvPr/>
        </p:nvPicPr>
        <p:blipFill>
          <a:blip r:embed="rId1"/>
          <a:stretch/>
        </p:blipFill>
        <p:spPr>
          <a:xfrm>
            <a:off x="652320" y="0"/>
            <a:ext cx="1602000" cy="19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Investigación </a:t>
            </a:r>
            <a:r>
              <a:rPr b="1" i="1" lang="es-CL" sz="1800" spc="-1" strike="noStrike">
                <a:solidFill>
                  <a:srgbClr val="614020"/>
                </a:solidFill>
                <a:latin typeface="Book Antiqua"/>
              </a:rPr>
              <a:t>La Poesía Popular impresa en Chile</a:t>
            </a:r>
            <a:r>
              <a:rPr b="1" lang="es-CL" sz="1800" spc="-1" strike="noStrike">
                <a:solidFill>
                  <a:srgbClr val="614020"/>
                </a:solidFill>
                <a:latin typeface="Book Antiqua"/>
              </a:rPr>
              <a:t>, llamada también “lira popular” o “literatura de cordel”. Constituía la mirada popular de los acontecimientos de la vida cotidiana y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 Instrucción Primaria Obligatoria, que establece la obligatoriedad a la Educación Primaria por un período de 4 años, adquiriendo además rango constitu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orteamericanos inician explotación de cobre en Potrerill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3.7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pitales chilenos inician explotación de estaño en Boliv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3:44:41Z</dcterms:created>
  <dc:creator>Rodrigo</dc:creator>
  <dc:description/>
  <dc:language>en-US</dc:language>
  <cp:lastModifiedBy>Rodrigo Andreucci</cp:lastModifiedBy>
  <dcterms:modified xsi:type="dcterms:W3CDTF">2010-08-04T14:11:27Z</dcterms:modified>
  <cp:revision>8</cp:revision>
  <dc:subject/>
  <dc:title>Diapositiva 1</dc:title>
</cp:coreProperties>
</file>